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4.png" ContentType="image/png"/>
  <Override PartName="/ppt/media/chimes.wav" ContentType="audio/x-wav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0.gif" ContentType="image/gif"/>
  <Override PartName="/ppt/media/image19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7.png" ContentType="image/png"/>
  <Override PartName="/ppt/media/image16.wmf" ContentType="image/x-wmf"/>
  <Override PartName="/ppt/media/image2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A3E4-C916-4D87-872B-417043E4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9AC-D1FF-4056-9770-67EF830F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A7A-97C7-4173-9247-B18F0D5F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439-0BF4-4DDE-AF7E-457631D2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CE2-A052-4649-87E4-D7763CF5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BC3-D60B-43CD-B658-876B3C25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800-464D-4007-88A3-D63C32D8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5B30-8D4B-4AA2-A7D2-E9F60A9B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84E-D8C4-49F4-97AF-A43AFEFC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303-98D7-4A1C-B399-7CA77DAE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C18-7FA1-4121-9890-E7EABAF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43F-10F9-4CF8-8736-79E56DF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B2D-3202-47A6-A2B3-D2A5989B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0FFA-4EE7-47C7-A2EA-3875408341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97080" y="1989000"/>
            <a:ext cx="458784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楷体"/>
              </a:rPr>
              <a:t>6.6</a:t>
            </a: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楷体"/>
              </a:rPr>
              <a:t>角的大小比较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-399960" y="2662200"/>
            <a:ext cx="57132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-628560" y="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-628560" y="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-626760" y="3569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练一练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: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、你能给我们分一分类么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66"/>
          <p:cNvGrpSpPr/>
          <p:nvPr/>
        </p:nvGrpSpPr>
        <p:grpSpPr>
          <a:xfrm>
            <a:off x="2411280" y="1412640"/>
            <a:ext cx="963720" cy="1365840"/>
            <a:chOff x="2411280" y="1412640"/>
            <a:chExt cx="963720" cy="1365840"/>
          </a:xfrm>
        </p:grpSpPr>
        <p:sp>
          <p:nvSpPr>
            <p:cNvPr id="199" name="Rectangle 14"/>
            <p:cNvSpPr/>
            <p:nvPr/>
          </p:nvSpPr>
          <p:spPr>
            <a:xfrm>
              <a:off x="2507760" y="2349360"/>
              <a:ext cx="41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8"/>
            <p:cNvSpPr/>
            <p:nvPr/>
          </p:nvSpPr>
          <p:spPr>
            <a:xfrm>
              <a:off x="2440080" y="229248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 flipV="1">
              <a:off x="2411280" y="1412640"/>
              <a:ext cx="0" cy="86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67"/>
          <p:cNvGrpSpPr/>
          <p:nvPr/>
        </p:nvGrpSpPr>
        <p:grpSpPr>
          <a:xfrm>
            <a:off x="3890880" y="1312560"/>
            <a:ext cx="641520" cy="1533960"/>
            <a:chOff x="3890880" y="1312560"/>
            <a:chExt cx="641520" cy="1533960"/>
          </a:xfrm>
        </p:grpSpPr>
        <p:sp>
          <p:nvSpPr>
            <p:cNvPr id="203" name="Text Box 9"/>
            <p:cNvSpPr/>
            <p:nvPr/>
          </p:nvSpPr>
          <p:spPr>
            <a:xfrm>
              <a:off x="3924360" y="2349360"/>
              <a:ext cx="436680" cy="4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Group 20"/>
            <p:cNvGrpSpPr/>
            <p:nvPr/>
          </p:nvGrpSpPr>
          <p:grpSpPr>
            <a:xfrm>
              <a:off x="3890880" y="1312560"/>
              <a:ext cx="641520" cy="1224000"/>
              <a:chOff x="3890880" y="1312560"/>
              <a:chExt cx="641520" cy="1224000"/>
            </a:xfrm>
          </p:grpSpPr>
          <p:sp>
            <p:nvSpPr>
              <p:cNvPr id="205" name="Line 21"/>
              <p:cNvSpPr/>
              <p:nvPr/>
            </p:nvSpPr>
            <p:spPr>
              <a:xfrm flipH="1" flipV="1">
                <a:off x="4025160" y="2120760"/>
                <a:ext cx="507240" cy="41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22"/>
              <p:cNvSpPr/>
              <p:nvPr/>
            </p:nvSpPr>
            <p:spPr>
              <a:xfrm flipH="1" flipV="1">
                <a:off x="3890880" y="1312560"/>
                <a:ext cx="134640" cy="80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Group 68"/>
          <p:cNvGrpSpPr/>
          <p:nvPr/>
        </p:nvGrpSpPr>
        <p:grpSpPr>
          <a:xfrm>
            <a:off x="5363640" y="1341360"/>
            <a:ext cx="574920" cy="1586160"/>
            <a:chOff x="5363640" y="1341360"/>
            <a:chExt cx="574920" cy="1586160"/>
          </a:xfrm>
        </p:grpSpPr>
        <p:sp>
          <p:nvSpPr>
            <p:cNvPr id="208" name="Text Box 5"/>
            <p:cNvSpPr/>
            <p:nvPr/>
          </p:nvSpPr>
          <p:spPr>
            <a:xfrm>
              <a:off x="5508720" y="2349360"/>
              <a:ext cx="419040" cy="57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3"/>
            <p:cNvGrpSpPr/>
            <p:nvPr/>
          </p:nvGrpSpPr>
          <p:grpSpPr>
            <a:xfrm>
              <a:off x="5363640" y="1341360"/>
              <a:ext cx="574920" cy="1008000"/>
              <a:chOff x="5363640" y="1341360"/>
              <a:chExt cx="574920" cy="1008000"/>
            </a:xfrm>
          </p:grpSpPr>
          <p:sp>
            <p:nvSpPr>
              <p:cNvPr id="210" name="Line 24"/>
              <p:cNvSpPr/>
              <p:nvPr/>
            </p:nvSpPr>
            <p:spPr>
              <a:xfrm flipH="1" flipV="1">
                <a:off x="5363640" y="1341360"/>
                <a:ext cx="335160" cy="100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5"/>
              <p:cNvSpPr/>
              <p:nvPr/>
            </p:nvSpPr>
            <p:spPr>
              <a:xfrm flipV="1">
                <a:off x="5699160" y="1393920"/>
                <a:ext cx="239400" cy="95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65"/>
          <p:cNvGrpSpPr/>
          <p:nvPr/>
        </p:nvGrpSpPr>
        <p:grpSpPr>
          <a:xfrm>
            <a:off x="630360" y="1503360"/>
            <a:ext cx="1296720" cy="1275120"/>
            <a:chOff x="630360" y="1503360"/>
            <a:chExt cx="1296720" cy="1275120"/>
          </a:xfrm>
        </p:grpSpPr>
        <p:sp>
          <p:nvSpPr>
            <p:cNvPr id="213" name="Rectangle 12"/>
            <p:cNvSpPr/>
            <p:nvPr/>
          </p:nvSpPr>
          <p:spPr>
            <a:xfrm>
              <a:off x="900000" y="2349360"/>
              <a:ext cx="49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① 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Group 26"/>
            <p:cNvGrpSpPr/>
            <p:nvPr/>
          </p:nvGrpSpPr>
          <p:grpSpPr>
            <a:xfrm>
              <a:off x="630360" y="1503360"/>
              <a:ext cx="1296720" cy="792000"/>
              <a:chOff x="630360" y="1503360"/>
              <a:chExt cx="1296720" cy="792000"/>
            </a:xfrm>
          </p:grpSpPr>
          <p:sp>
            <p:nvSpPr>
              <p:cNvPr id="215" name="Line 27"/>
              <p:cNvSpPr/>
              <p:nvPr/>
            </p:nvSpPr>
            <p:spPr>
              <a:xfrm flipV="1">
                <a:off x="630360" y="1503360"/>
                <a:ext cx="100764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28"/>
              <p:cNvSpPr/>
              <p:nvPr/>
            </p:nvSpPr>
            <p:spPr>
              <a:xfrm>
                <a:off x="630360" y="2295360"/>
                <a:ext cx="129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Group 69"/>
          <p:cNvGrpSpPr/>
          <p:nvPr/>
        </p:nvGrpSpPr>
        <p:grpSpPr>
          <a:xfrm>
            <a:off x="6671880" y="1374480"/>
            <a:ext cx="1161360" cy="1619640"/>
            <a:chOff x="6671880" y="1374480"/>
            <a:chExt cx="1161360" cy="1619640"/>
          </a:xfrm>
        </p:grpSpPr>
        <p:sp>
          <p:nvSpPr>
            <p:cNvPr id="218" name="Text Box 6"/>
            <p:cNvSpPr/>
            <p:nvPr/>
          </p:nvSpPr>
          <p:spPr>
            <a:xfrm>
              <a:off x="6877080" y="2349360"/>
              <a:ext cx="519120" cy="6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29"/>
            <p:cNvGrpSpPr/>
            <p:nvPr/>
          </p:nvGrpSpPr>
          <p:grpSpPr>
            <a:xfrm>
              <a:off x="6671880" y="1374480"/>
              <a:ext cx="1161360" cy="928800"/>
              <a:chOff x="6671880" y="1374480"/>
              <a:chExt cx="1161360" cy="928800"/>
            </a:xfrm>
          </p:grpSpPr>
          <p:sp>
            <p:nvSpPr>
              <p:cNvPr id="220" name="Line 30"/>
              <p:cNvSpPr/>
              <p:nvPr/>
            </p:nvSpPr>
            <p:spPr>
              <a:xfrm flipH="1">
                <a:off x="6671880" y="2287080"/>
                <a:ext cx="810720" cy="16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31"/>
              <p:cNvSpPr/>
              <p:nvPr/>
            </p:nvSpPr>
            <p:spPr>
              <a:xfrm flipV="1">
                <a:off x="7482600" y="1374480"/>
                <a:ext cx="350640" cy="912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Group 70"/>
          <p:cNvGrpSpPr/>
          <p:nvPr/>
        </p:nvGrpSpPr>
        <p:grpSpPr>
          <a:xfrm>
            <a:off x="2411280" y="1412640"/>
            <a:ext cx="963720" cy="1365840"/>
            <a:chOff x="2411280" y="1412640"/>
            <a:chExt cx="963720" cy="1365840"/>
          </a:xfrm>
        </p:grpSpPr>
        <p:sp>
          <p:nvSpPr>
            <p:cNvPr id="223" name="Rectangle 71"/>
            <p:cNvSpPr/>
            <p:nvPr/>
          </p:nvSpPr>
          <p:spPr>
            <a:xfrm>
              <a:off x="2507760" y="2349360"/>
              <a:ext cx="41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72"/>
            <p:cNvSpPr/>
            <p:nvPr/>
          </p:nvSpPr>
          <p:spPr>
            <a:xfrm>
              <a:off x="2440080" y="229248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 flipV="1">
              <a:off x="2411280" y="1412640"/>
              <a:ext cx="0" cy="86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74"/>
          <p:cNvGrpSpPr/>
          <p:nvPr/>
        </p:nvGrpSpPr>
        <p:grpSpPr>
          <a:xfrm>
            <a:off x="3897000" y="1312560"/>
            <a:ext cx="641520" cy="1533960"/>
            <a:chOff x="3897000" y="1312560"/>
            <a:chExt cx="641520" cy="1533960"/>
          </a:xfrm>
        </p:grpSpPr>
        <p:sp>
          <p:nvSpPr>
            <p:cNvPr id="227" name="Text Box 75"/>
            <p:cNvSpPr/>
            <p:nvPr/>
          </p:nvSpPr>
          <p:spPr>
            <a:xfrm>
              <a:off x="3930480" y="2349360"/>
              <a:ext cx="436680" cy="4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Group 76"/>
            <p:cNvGrpSpPr/>
            <p:nvPr/>
          </p:nvGrpSpPr>
          <p:grpSpPr>
            <a:xfrm>
              <a:off x="3897000" y="1312560"/>
              <a:ext cx="641520" cy="1224000"/>
              <a:chOff x="3897000" y="1312560"/>
              <a:chExt cx="641520" cy="1224000"/>
            </a:xfrm>
          </p:grpSpPr>
          <p:sp>
            <p:nvSpPr>
              <p:cNvPr id="229" name="Line 77"/>
              <p:cNvSpPr/>
              <p:nvPr/>
            </p:nvSpPr>
            <p:spPr>
              <a:xfrm flipH="1" flipV="1">
                <a:off x="4031280" y="2120760"/>
                <a:ext cx="507240" cy="41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78"/>
              <p:cNvSpPr/>
              <p:nvPr/>
            </p:nvSpPr>
            <p:spPr>
              <a:xfrm flipH="1" flipV="1">
                <a:off x="3897000" y="1312560"/>
                <a:ext cx="134640" cy="80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1" name="Group 79"/>
          <p:cNvGrpSpPr/>
          <p:nvPr/>
        </p:nvGrpSpPr>
        <p:grpSpPr>
          <a:xfrm>
            <a:off x="5370120" y="1341360"/>
            <a:ext cx="574560" cy="1586160"/>
            <a:chOff x="5370120" y="1341360"/>
            <a:chExt cx="574560" cy="1586160"/>
          </a:xfrm>
        </p:grpSpPr>
        <p:sp>
          <p:nvSpPr>
            <p:cNvPr id="232" name="Text Box 80"/>
            <p:cNvSpPr/>
            <p:nvPr/>
          </p:nvSpPr>
          <p:spPr>
            <a:xfrm>
              <a:off x="5514840" y="2349360"/>
              <a:ext cx="418680" cy="57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④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81"/>
            <p:cNvGrpSpPr/>
            <p:nvPr/>
          </p:nvGrpSpPr>
          <p:grpSpPr>
            <a:xfrm>
              <a:off x="5370120" y="1341360"/>
              <a:ext cx="574560" cy="1008000"/>
              <a:chOff x="5370120" y="1341360"/>
              <a:chExt cx="574560" cy="1008000"/>
            </a:xfrm>
          </p:grpSpPr>
          <p:sp>
            <p:nvSpPr>
              <p:cNvPr id="234" name="Line 82"/>
              <p:cNvSpPr/>
              <p:nvPr/>
            </p:nvSpPr>
            <p:spPr>
              <a:xfrm flipH="1" flipV="1">
                <a:off x="5370120" y="1341360"/>
                <a:ext cx="335160" cy="100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83"/>
              <p:cNvSpPr/>
              <p:nvPr/>
            </p:nvSpPr>
            <p:spPr>
              <a:xfrm flipV="1">
                <a:off x="5705640" y="1393920"/>
                <a:ext cx="239040" cy="95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Group 84"/>
          <p:cNvGrpSpPr/>
          <p:nvPr/>
        </p:nvGrpSpPr>
        <p:grpSpPr>
          <a:xfrm>
            <a:off x="636480" y="1503360"/>
            <a:ext cx="1296720" cy="1275120"/>
            <a:chOff x="636480" y="1503360"/>
            <a:chExt cx="1296720" cy="1275120"/>
          </a:xfrm>
        </p:grpSpPr>
        <p:sp>
          <p:nvSpPr>
            <p:cNvPr id="237" name="Rectangle 85"/>
            <p:cNvSpPr/>
            <p:nvPr/>
          </p:nvSpPr>
          <p:spPr>
            <a:xfrm>
              <a:off x="906120" y="2349360"/>
              <a:ext cx="49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① 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Group 86"/>
            <p:cNvGrpSpPr/>
            <p:nvPr/>
          </p:nvGrpSpPr>
          <p:grpSpPr>
            <a:xfrm>
              <a:off x="636480" y="1503360"/>
              <a:ext cx="1296720" cy="792000"/>
              <a:chOff x="636480" y="1503360"/>
              <a:chExt cx="1296720" cy="792000"/>
            </a:xfrm>
          </p:grpSpPr>
          <p:sp>
            <p:nvSpPr>
              <p:cNvPr id="239" name="Line 87"/>
              <p:cNvSpPr/>
              <p:nvPr/>
            </p:nvSpPr>
            <p:spPr>
              <a:xfrm flipV="1">
                <a:off x="636480" y="1503360"/>
                <a:ext cx="1007640" cy="79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88"/>
              <p:cNvSpPr/>
              <p:nvPr/>
            </p:nvSpPr>
            <p:spPr>
              <a:xfrm>
                <a:off x="636480" y="2295360"/>
                <a:ext cx="1296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89"/>
          <p:cNvGrpSpPr/>
          <p:nvPr/>
        </p:nvGrpSpPr>
        <p:grpSpPr>
          <a:xfrm>
            <a:off x="6678000" y="1374480"/>
            <a:ext cx="1161360" cy="1619640"/>
            <a:chOff x="6678000" y="1374480"/>
            <a:chExt cx="1161360" cy="1619640"/>
          </a:xfrm>
        </p:grpSpPr>
        <p:sp>
          <p:nvSpPr>
            <p:cNvPr id="242" name="Text Box 90"/>
            <p:cNvSpPr/>
            <p:nvPr/>
          </p:nvSpPr>
          <p:spPr>
            <a:xfrm>
              <a:off x="6883560" y="2349360"/>
              <a:ext cx="518760" cy="64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⑤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91"/>
            <p:cNvGrpSpPr/>
            <p:nvPr/>
          </p:nvGrpSpPr>
          <p:grpSpPr>
            <a:xfrm>
              <a:off x="6678000" y="1374480"/>
              <a:ext cx="1161360" cy="928800"/>
              <a:chOff x="6678000" y="1374480"/>
              <a:chExt cx="1161360" cy="928800"/>
            </a:xfrm>
          </p:grpSpPr>
          <p:sp>
            <p:nvSpPr>
              <p:cNvPr id="244" name="Line 92"/>
              <p:cNvSpPr/>
              <p:nvPr/>
            </p:nvSpPr>
            <p:spPr>
              <a:xfrm flipH="1">
                <a:off x="6678000" y="2287080"/>
                <a:ext cx="810360" cy="16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93"/>
              <p:cNvSpPr/>
              <p:nvPr/>
            </p:nvSpPr>
            <p:spPr>
              <a:xfrm flipV="1">
                <a:off x="7488720" y="1374480"/>
                <a:ext cx="350640" cy="912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AutoShape 94"/>
          <p:cNvSpPr/>
          <p:nvPr/>
        </p:nvSpPr>
        <p:spPr>
          <a:xfrm rot="16200000">
            <a:off x="1474560" y="3861720"/>
            <a:ext cx="360360" cy="165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7880 h 1656000"/>
              <a:gd name="textAreaBottom" fmla="*/ 160812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4"/>
                  <a:pt x="10800" y="2008"/>
                </a:cubicBezTo>
                <a:lnTo>
                  <a:pt x="10800" y="8330"/>
                </a:lnTo>
                <a:cubicBezTo>
                  <a:pt x="10800" y="9334"/>
                  <a:pt x="5400" y="10338"/>
                  <a:pt x="0" y="10338"/>
                </a:cubicBezTo>
                <a:cubicBezTo>
                  <a:pt x="5400" y="10338"/>
                  <a:pt x="10800" y="11342"/>
                  <a:pt x="10800" y="12346"/>
                </a:cubicBezTo>
                <a:lnTo>
                  <a:pt x="10800" y="19592"/>
                </a:lnTo>
                <a:cubicBezTo>
                  <a:pt x="10800" y="205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95"/>
          <p:cNvSpPr/>
          <p:nvPr/>
        </p:nvSpPr>
        <p:spPr>
          <a:xfrm rot="16200000">
            <a:off x="6516720" y="3862080"/>
            <a:ext cx="360360" cy="165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7880 h 1655640"/>
              <a:gd name="textAreaBottom" fmla="*/ 160776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4"/>
                  <a:pt x="10800" y="2008"/>
                </a:cubicBezTo>
                <a:lnTo>
                  <a:pt x="10800" y="8330"/>
                </a:lnTo>
                <a:cubicBezTo>
                  <a:pt x="10800" y="9334"/>
                  <a:pt x="5400" y="10338"/>
                  <a:pt x="0" y="10338"/>
                </a:cubicBezTo>
                <a:cubicBezTo>
                  <a:pt x="5400" y="10338"/>
                  <a:pt x="10800" y="11342"/>
                  <a:pt x="10800" y="12346"/>
                </a:cubicBezTo>
                <a:lnTo>
                  <a:pt x="10800" y="19592"/>
                </a:lnTo>
                <a:cubicBezTo>
                  <a:pt x="10800" y="20596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96"/>
          <p:cNvSpPr/>
          <p:nvPr/>
        </p:nvSpPr>
        <p:spPr>
          <a:xfrm>
            <a:off x="3780000" y="486900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直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7"/>
          <p:cNvSpPr/>
          <p:nvPr/>
        </p:nvSpPr>
        <p:spPr>
          <a:xfrm>
            <a:off x="684360" y="494172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比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9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8"/>
          <p:cNvSpPr/>
          <p:nvPr/>
        </p:nvSpPr>
        <p:spPr>
          <a:xfrm>
            <a:off x="5148360" y="491508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比直角大比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80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99"/>
          <p:cNvSpPr/>
          <p:nvPr/>
        </p:nvSpPr>
        <p:spPr>
          <a:xfrm>
            <a:off x="1116000" y="551664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锐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00"/>
          <p:cNvSpPr/>
          <p:nvPr/>
        </p:nvSpPr>
        <p:spPr>
          <a:xfrm>
            <a:off x="6300720" y="55166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钝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7 0.07362 L 0.16719 0.23658 E">
                                      <p:cBhvr>
                                        <p:cTn id="251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7245 L -0.00278 0.24051 E">
                                      <p:cBhvr>
                                        <p:cTn id="261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0.06296 L -0.33924 0.24144 E">
                                      <p:cBhvr>
                                        <p:cTn id="26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0.07407 L 0.1974 0.23148 E">
                                      <p:cBhvr>
                                        <p:cTn id="287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6481 L -0.00243 0.23287 E">
                                      <p:cBhvr>
                                        <p:cTn id="291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35"/>
          <p:cNvGrpSpPr/>
          <p:nvPr/>
        </p:nvGrpSpPr>
        <p:grpSpPr>
          <a:xfrm>
            <a:off x="2208240" y="1400040"/>
            <a:ext cx="863640" cy="520560"/>
            <a:chOff x="2208240" y="1400040"/>
            <a:chExt cx="863640" cy="520560"/>
          </a:xfrm>
        </p:grpSpPr>
        <p:sp>
          <p:nvSpPr>
            <p:cNvPr id="254" name="Rectangle 10"/>
            <p:cNvSpPr/>
            <p:nvPr/>
          </p:nvSpPr>
          <p:spPr>
            <a:xfrm>
              <a:off x="2208240" y="1436400"/>
              <a:ext cx="863640" cy="463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9"/>
            <p:cNvSpPr/>
            <p:nvPr/>
          </p:nvSpPr>
          <p:spPr>
            <a:xfrm>
              <a:off x="2341080" y="1400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钝角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2"/>
          <p:cNvSpPr/>
          <p:nvPr/>
        </p:nvSpPr>
        <p:spPr>
          <a:xfrm>
            <a:off x="671760" y="1400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685800" y="4579560"/>
            <a:ext cx="790560" cy="863640"/>
            <a:chOff x="685800" y="4579560"/>
            <a:chExt cx="790560" cy="863640"/>
          </a:xfrm>
        </p:grpSpPr>
        <p:sp>
          <p:nvSpPr>
            <p:cNvPr id="258" name="Line 7"/>
            <p:cNvSpPr/>
            <p:nvPr/>
          </p:nvSpPr>
          <p:spPr>
            <a:xfrm>
              <a:off x="685800" y="5441760"/>
              <a:ext cx="7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 flipV="1">
              <a:off x="686880" y="457956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24"/>
          <p:cNvGrpSpPr/>
          <p:nvPr/>
        </p:nvGrpSpPr>
        <p:grpSpPr>
          <a:xfrm>
            <a:off x="1620360" y="4579920"/>
            <a:ext cx="802080" cy="863640"/>
            <a:chOff x="1620360" y="4579920"/>
            <a:chExt cx="802080" cy="863640"/>
          </a:xfrm>
        </p:grpSpPr>
        <p:sp>
          <p:nvSpPr>
            <p:cNvPr id="261" name="Line 19"/>
            <p:cNvSpPr/>
            <p:nvPr/>
          </p:nvSpPr>
          <p:spPr>
            <a:xfrm>
              <a:off x="2422440" y="4579920"/>
              <a:ext cx="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0"/>
            <p:cNvSpPr/>
            <p:nvPr/>
          </p:nvSpPr>
          <p:spPr>
            <a:xfrm flipH="1" flipV="1">
              <a:off x="1620360" y="4641120"/>
              <a:ext cx="801720" cy="80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8"/>
          <p:cNvGrpSpPr/>
          <p:nvPr/>
        </p:nvGrpSpPr>
        <p:grpSpPr>
          <a:xfrm>
            <a:off x="2917800" y="4729320"/>
            <a:ext cx="1368000" cy="714240"/>
            <a:chOff x="2917800" y="4729320"/>
            <a:chExt cx="1368000" cy="714240"/>
          </a:xfrm>
        </p:grpSpPr>
        <p:sp>
          <p:nvSpPr>
            <p:cNvPr id="264" name="Line 22"/>
            <p:cNvSpPr/>
            <p:nvPr/>
          </p:nvSpPr>
          <p:spPr>
            <a:xfrm flipV="1">
              <a:off x="3572280" y="4729320"/>
              <a:ext cx="71352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3"/>
            <p:cNvSpPr/>
            <p:nvPr/>
          </p:nvSpPr>
          <p:spPr>
            <a:xfrm flipH="1" flipV="1">
              <a:off x="2917800" y="4788000"/>
              <a:ext cx="654480" cy="65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27"/>
          <p:cNvGrpSpPr/>
          <p:nvPr/>
        </p:nvGrpSpPr>
        <p:grpSpPr>
          <a:xfrm>
            <a:off x="4645080" y="4784400"/>
            <a:ext cx="1158480" cy="731880"/>
            <a:chOff x="4645080" y="4784400"/>
            <a:chExt cx="1158480" cy="731880"/>
          </a:xfrm>
        </p:grpSpPr>
        <p:sp>
          <p:nvSpPr>
            <p:cNvPr id="267" name="Line 25"/>
            <p:cNvSpPr/>
            <p:nvPr/>
          </p:nvSpPr>
          <p:spPr>
            <a:xfrm flipV="1">
              <a:off x="4645080" y="4784400"/>
              <a:ext cx="304920" cy="73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>
              <a:off x="4950000" y="4784760"/>
              <a:ext cx="853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31"/>
          <p:cNvGrpSpPr/>
          <p:nvPr/>
        </p:nvGrpSpPr>
        <p:grpSpPr>
          <a:xfrm>
            <a:off x="6013440" y="4673160"/>
            <a:ext cx="1008000" cy="770400"/>
            <a:chOff x="6013440" y="4673160"/>
            <a:chExt cx="1008000" cy="770400"/>
          </a:xfrm>
        </p:grpSpPr>
        <p:sp>
          <p:nvSpPr>
            <p:cNvPr id="270" name="Line 29"/>
            <p:cNvSpPr/>
            <p:nvPr/>
          </p:nvSpPr>
          <p:spPr>
            <a:xfrm>
              <a:off x="6013440" y="5443560"/>
              <a:ext cx="1008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 flipV="1">
              <a:off x="6013440" y="4673160"/>
              <a:ext cx="770400" cy="77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4"/>
          <p:cNvGrpSpPr/>
          <p:nvPr/>
        </p:nvGrpSpPr>
        <p:grpSpPr>
          <a:xfrm>
            <a:off x="7453440" y="4795560"/>
            <a:ext cx="1366560" cy="600480"/>
            <a:chOff x="7453440" y="4795560"/>
            <a:chExt cx="1366560" cy="600480"/>
          </a:xfrm>
        </p:grpSpPr>
        <p:sp>
          <p:nvSpPr>
            <p:cNvPr id="273" name="Line 32"/>
            <p:cNvSpPr/>
            <p:nvPr/>
          </p:nvSpPr>
          <p:spPr>
            <a:xfrm>
              <a:off x="7966080" y="5396040"/>
              <a:ext cx="85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33"/>
            <p:cNvSpPr/>
            <p:nvPr/>
          </p:nvSpPr>
          <p:spPr>
            <a:xfrm flipH="1" flipV="1">
              <a:off x="7453440" y="4795560"/>
              <a:ext cx="512640" cy="60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657680" y="1436760"/>
            <a:ext cx="863640" cy="520560"/>
            <a:chOff x="4657680" y="1436760"/>
            <a:chExt cx="863640" cy="520560"/>
          </a:xfrm>
        </p:grpSpPr>
        <p:sp>
          <p:nvSpPr>
            <p:cNvPr id="276" name="Rectangle 37"/>
            <p:cNvSpPr/>
            <p:nvPr/>
          </p:nvSpPr>
          <p:spPr>
            <a:xfrm>
              <a:off x="4657680" y="1473120"/>
              <a:ext cx="863640" cy="463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38"/>
            <p:cNvSpPr/>
            <p:nvPr/>
          </p:nvSpPr>
          <p:spPr>
            <a:xfrm>
              <a:off x="4790520" y="1436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锐角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39"/>
          <p:cNvGrpSpPr/>
          <p:nvPr/>
        </p:nvGrpSpPr>
        <p:grpSpPr>
          <a:xfrm>
            <a:off x="7265880" y="1400040"/>
            <a:ext cx="863640" cy="520560"/>
            <a:chOff x="7265880" y="1400040"/>
            <a:chExt cx="863640" cy="520560"/>
          </a:xfrm>
        </p:grpSpPr>
        <p:sp>
          <p:nvSpPr>
            <p:cNvPr id="279" name="Rectangle 40"/>
            <p:cNvSpPr/>
            <p:nvPr/>
          </p:nvSpPr>
          <p:spPr>
            <a:xfrm>
              <a:off x="7265880" y="1436400"/>
              <a:ext cx="863640" cy="4636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41"/>
            <p:cNvSpPr/>
            <p:nvPr/>
          </p:nvSpPr>
          <p:spPr>
            <a:xfrm>
              <a:off x="7398720" y="1400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直角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Line 42"/>
          <p:cNvSpPr/>
          <p:nvPr/>
        </p:nvSpPr>
        <p:spPr>
          <a:xfrm flipH="1">
            <a:off x="2195280" y="1919160"/>
            <a:ext cx="2446200" cy="2519640"/>
          </a:xfrm>
          <a:prstGeom prst="line">
            <a:avLst/>
          </a:prstGeom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3"/>
          <p:cNvSpPr/>
          <p:nvPr/>
        </p:nvSpPr>
        <p:spPr>
          <a:xfrm flipH="1">
            <a:off x="971640" y="1919160"/>
            <a:ext cx="6192720" cy="251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4"/>
          <p:cNvSpPr/>
          <p:nvPr/>
        </p:nvSpPr>
        <p:spPr>
          <a:xfrm>
            <a:off x="4643280" y="1919160"/>
            <a:ext cx="1800360" cy="2662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45"/>
          <p:cNvSpPr/>
          <p:nvPr/>
        </p:nvSpPr>
        <p:spPr>
          <a:xfrm flipH="1">
            <a:off x="3563640" y="1919160"/>
            <a:ext cx="3600360" cy="2735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6"/>
          <p:cNvSpPr/>
          <p:nvPr/>
        </p:nvSpPr>
        <p:spPr>
          <a:xfrm>
            <a:off x="2484360" y="1919160"/>
            <a:ext cx="2374920" cy="2590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7"/>
          <p:cNvSpPr/>
          <p:nvPr/>
        </p:nvSpPr>
        <p:spPr>
          <a:xfrm>
            <a:off x="2484360" y="1919160"/>
            <a:ext cx="5472360" cy="2735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62080" y="2163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直角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____°=_____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平角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=_____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周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09520" y="3376440"/>
            <a:ext cx="9906120" cy="990720"/>
            <a:chOff x="209520" y="3376440"/>
            <a:chExt cx="9906120" cy="990720"/>
          </a:xfrm>
        </p:grpSpPr>
        <p:sp>
          <p:nvSpPr>
            <p:cNvPr id="289" name=""/>
            <p:cNvSpPr/>
            <p:nvPr/>
          </p:nvSpPr>
          <p:spPr>
            <a:xfrm>
              <a:off x="209520" y="3547800"/>
              <a:ext cx="9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平角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=___ °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它是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___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角（填“钝”“锐”或“直”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123920" y="3376440"/>
                  <a:ext cx="55404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1" name=""/>
          <p:cNvGrpSpPr/>
          <p:nvPr/>
        </p:nvGrpSpPr>
        <p:grpSpPr>
          <a:xfrm>
            <a:off x="214200" y="4648320"/>
            <a:ext cx="9372240" cy="838080"/>
            <a:chOff x="214200" y="4648320"/>
            <a:chExt cx="9372240" cy="838080"/>
          </a:xfrm>
        </p:grpSpPr>
        <p:sp>
          <p:nvSpPr>
            <p:cNvPr id="292" name=""/>
            <p:cNvSpPr/>
            <p:nvPr/>
          </p:nvSpPr>
          <p:spPr>
            <a:xfrm>
              <a:off x="214200" y="4829400"/>
              <a:ext cx="937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） 周角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=___°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，它是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___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角（填“钝”“锐”或“直”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1151280" y="4648320"/>
                  <a:ext cx="5058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4" name=""/>
          <p:cNvSpPr txBox="1"/>
          <p:nvPr/>
        </p:nvSpPr>
        <p:spPr>
          <a:xfrm>
            <a:off x="533520" y="609480"/>
            <a:ext cx="2247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316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a42700"/>
                    </a:gs>
                    <a:gs pos="50000">
                      <a:srgbClr val="ff3300"/>
                    </a:gs>
                    <a:gs pos="100000">
                      <a:srgbClr val="a427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动口抢答</a:t>
            </a:r>
            <a:endParaRPr b="1" lang="en-US" sz="9600" spc="1" strike="noStrike">
              <a:ln w="316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a42700"/>
                  </a:gs>
                  <a:gs pos="50000">
                    <a:srgbClr val="ff3300"/>
                  </a:gs>
                  <a:gs pos="100000">
                    <a:srgbClr val="a427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95" name=""/>
          <p:cNvSpPr/>
          <p:nvPr/>
        </p:nvSpPr>
        <p:spPr>
          <a:xfrm>
            <a:off x="2352600" y="2133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9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05200" y="1695600"/>
                <a:ext cx="5414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478480" y="1755720"/>
                <a:ext cx="4017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2144880" y="34765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78760" y="3475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43160" y="4753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83640" y="4719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342520" y="908640"/>
            <a:ext cx="42886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已知        ，用量角器作一个角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它等于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676440" cy="4618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2801880" y="1784520"/>
            <a:ext cx="674640" cy="4633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861080" y="436572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861080" y="2709720"/>
            <a:ext cx="208728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AOL"/>
          <p:cNvPicPr/>
          <p:nvPr/>
        </p:nvPicPr>
        <p:blipFill>
          <a:blip r:embed="rId2"/>
          <a:stretch/>
        </p:blipFill>
        <p:spPr>
          <a:xfrm>
            <a:off x="179280" y="26028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971640" y="4046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52360" y="476280"/>
            <a:ext cx="590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下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,O,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一条直线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答下列问题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比较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大小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找出图中的直角、锐角和  钝角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012000" y="620640"/>
            <a:ext cx="2490120" cy="3239640"/>
            <a:chOff x="6012000" y="620640"/>
            <a:chExt cx="2490120" cy="3239640"/>
          </a:xfrm>
        </p:grpSpPr>
        <p:sp>
          <p:nvSpPr>
            <p:cNvPr id="311" name="AutoShape 7"/>
            <p:cNvSpPr/>
            <p:nvPr/>
          </p:nvSpPr>
          <p:spPr>
            <a:xfrm>
              <a:off x="6012000" y="620640"/>
              <a:ext cx="2490120" cy="32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"/>
            <p:cNvSpPr/>
            <p:nvPr/>
          </p:nvSpPr>
          <p:spPr>
            <a:xfrm>
              <a:off x="6531480" y="788400"/>
              <a:ext cx="2160" cy="1591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6183000" y="7884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0"/>
            <p:cNvSpPr/>
            <p:nvPr/>
          </p:nvSpPr>
          <p:spPr>
            <a:xfrm>
              <a:off x="6531480" y="2380320"/>
              <a:ext cx="174132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1"/>
            <p:cNvSpPr/>
            <p:nvPr/>
          </p:nvSpPr>
          <p:spPr>
            <a:xfrm>
              <a:off x="8061840" y="20026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6699600" y="2226600"/>
              <a:ext cx="2160" cy="153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6531480" y="2226600"/>
              <a:ext cx="16776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4"/>
            <p:cNvSpPr/>
            <p:nvPr/>
          </p:nvSpPr>
          <p:spPr>
            <a:xfrm>
              <a:off x="6149880" y="22266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 flipH="1">
              <a:off x="6531480" y="1081080"/>
              <a:ext cx="961920" cy="1298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6"/>
            <p:cNvSpPr/>
            <p:nvPr/>
          </p:nvSpPr>
          <p:spPr>
            <a:xfrm>
              <a:off x="7101720" y="9417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7"/>
            <p:cNvSpPr/>
            <p:nvPr/>
          </p:nvSpPr>
          <p:spPr>
            <a:xfrm>
              <a:off x="6531480" y="2380320"/>
              <a:ext cx="1420200" cy="879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8"/>
            <p:cNvSpPr/>
            <p:nvPr/>
          </p:nvSpPr>
          <p:spPr>
            <a:xfrm>
              <a:off x="7848360" y="32738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9"/>
            <p:cNvSpPr/>
            <p:nvPr/>
          </p:nvSpPr>
          <p:spPr>
            <a:xfrm flipH="1">
              <a:off x="6668640" y="2338200"/>
              <a:ext cx="91080" cy="1260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0"/>
            <p:cNvSpPr/>
            <p:nvPr/>
          </p:nvSpPr>
          <p:spPr>
            <a:xfrm>
              <a:off x="6622560" y="2254680"/>
              <a:ext cx="137160" cy="8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1"/>
            <p:cNvSpPr/>
            <p:nvPr/>
          </p:nvSpPr>
          <p:spPr>
            <a:xfrm>
              <a:off x="6531480" y="2380320"/>
              <a:ext cx="2160" cy="1228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22"/>
            <p:cNvSpPr/>
            <p:nvPr/>
          </p:nvSpPr>
          <p:spPr>
            <a:xfrm>
              <a:off x="6139440" y="33577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99960" y="936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19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048760" y="1052280"/>
            <a:ext cx="48999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较下列三个时刻的时针和分针所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角的大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说明理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:00,3:30,6:4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178920" y="1773360"/>
            <a:ext cx="1728720" cy="1439280"/>
            <a:chOff x="178920" y="1773360"/>
            <a:chExt cx="1728720" cy="1439280"/>
          </a:xfrm>
        </p:grpSpPr>
        <p:grpSp>
          <p:nvGrpSpPr>
            <p:cNvPr id="331" name=""/>
            <p:cNvGrpSpPr/>
            <p:nvPr/>
          </p:nvGrpSpPr>
          <p:grpSpPr>
            <a:xfrm>
              <a:off x="178920" y="1773360"/>
              <a:ext cx="767880" cy="1439280"/>
              <a:chOff x="178920" y="1773360"/>
              <a:chExt cx="767880" cy="1439280"/>
            </a:xfrm>
          </p:grpSpPr>
          <p:sp>
            <p:nvSpPr>
              <p:cNvPr id="332" name="AutoShape 6"/>
              <p:cNvSpPr/>
              <p:nvPr/>
            </p:nvSpPr>
            <p:spPr>
              <a:xfrm flipH="1">
                <a:off x="178560" y="1773360"/>
                <a:ext cx="767880" cy="14392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AutoShape 7"/>
              <p:cNvSpPr/>
              <p:nvPr/>
            </p:nvSpPr>
            <p:spPr>
              <a:xfrm flipH="1">
                <a:off x="448560" y="2318760"/>
                <a:ext cx="358200" cy="7192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945720" y="2102400"/>
              <a:ext cx="961920" cy="1108440"/>
              <a:chOff x="945720" y="2102400"/>
              <a:chExt cx="961920" cy="1108440"/>
            </a:xfrm>
          </p:grpSpPr>
          <p:sp>
            <p:nvSpPr>
              <p:cNvPr id="335" name="AutoShape 9"/>
              <p:cNvSpPr/>
              <p:nvPr/>
            </p:nvSpPr>
            <p:spPr>
              <a:xfrm>
                <a:off x="945720" y="2102400"/>
                <a:ext cx="961920" cy="11084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AutoShape 10"/>
              <p:cNvSpPr/>
              <p:nvPr/>
            </p:nvSpPr>
            <p:spPr>
              <a:xfrm>
                <a:off x="1089720" y="2490480"/>
                <a:ext cx="480960" cy="5540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7" name="Rectangle 11"/>
          <p:cNvSpPr/>
          <p:nvPr/>
        </p:nvSpPr>
        <p:spPr>
          <a:xfrm>
            <a:off x="3059280" y="260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用一副三角板，我们能画出哪些度数的角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3" descr="qz_1rejo[1]"/>
          <p:cNvPicPr/>
          <p:nvPr/>
        </p:nvPicPr>
        <p:blipFill>
          <a:blip r:embed="rId2"/>
          <a:stretch/>
        </p:blipFill>
        <p:spPr>
          <a:xfrm>
            <a:off x="6732720" y="5359320"/>
            <a:ext cx="2411280" cy="1498680"/>
          </a:xfrm>
          <a:prstGeom prst="rect">
            <a:avLst/>
          </a:prstGeom>
          <a:ln w="0">
            <a:noFill/>
          </a:ln>
        </p:spPr>
      </p:pic>
      <p:sp>
        <p:nvSpPr>
          <p:cNvPr id="339" name="WordArt 17"/>
          <p:cNvSpPr txBox="1"/>
          <p:nvPr/>
        </p:nvSpPr>
        <p:spPr>
          <a:xfrm>
            <a:off x="324000" y="333360"/>
            <a:ext cx="1828800" cy="97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方正舒体"/>
              </a:rPr>
              <a:t>探究活动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方正舒体"/>
              <a:ea typeface="方正舒体"/>
            </a:endParaRPr>
          </a:p>
        </p:txBody>
      </p:sp>
      <p:pic>
        <p:nvPicPr>
          <p:cNvPr id="340" name="Picture 19" descr="e2-1"/>
          <p:cNvPicPr/>
          <p:nvPr/>
        </p:nvPicPr>
        <p:blipFill>
          <a:blip r:embed="rId3"/>
          <a:stretch/>
        </p:blipFill>
        <p:spPr>
          <a:xfrm>
            <a:off x="611280" y="620640"/>
            <a:ext cx="10810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148000" y="4653000"/>
            <a:ext cx="1152360" cy="1584360"/>
            <a:chOff x="5148000" y="4653000"/>
            <a:chExt cx="1152360" cy="1584360"/>
          </a:xfrm>
        </p:grpSpPr>
        <p:grpSp>
          <p:nvGrpSpPr>
            <p:cNvPr id="342" name=""/>
            <p:cNvGrpSpPr/>
            <p:nvPr/>
          </p:nvGrpSpPr>
          <p:grpSpPr>
            <a:xfrm>
              <a:off x="5148000" y="4653000"/>
              <a:ext cx="863640" cy="1584360"/>
              <a:chOff x="5148000" y="4653000"/>
              <a:chExt cx="863640" cy="1584360"/>
            </a:xfrm>
          </p:grpSpPr>
          <p:sp>
            <p:nvSpPr>
              <p:cNvPr id="343" name="AutoShape 23"/>
              <p:cNvSpPr/>
              <p:nvPr/>
            </p:nvSpPr>
            <p:spPr>
              <a:xfrm flipH="1">
                <a:off x="5147640" y="4653000"/>
                <a:ext cx="863640" cy="15843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AutoShape 24"/>
              <p:cNvSpPr/>
              <p:nvPr/>
            </p:nvSpPr>
            <p:spPr>
              <a:xfrm flipH="1">
                <a:off x="5451480" y="5253480"/>
                <a:ext cx="402840" cy="79200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5148000" y="5205600"/>
              <a:ext cx="1152360" cy="1031760"/>
              <a:chOff x="5148000" y="5205600"/>
              <a:chExt cx="1152360" cy="1031760"/>
            </a:xfrm>
          </p:grpSpPr>
          <p:sp>
            <p:nvSpPr>
              <p:cNvPr id="346" name="AutoShape 26"/>
              <p:cNvSpPr/>
              <p:nvPr/>
            </p:nvSpPr>
            <p:spPr>
              <a:xfrm flipH="1">
                <a:off x="5147640" y="5205600"/>
                <a:ext cx="1152360" cy="10317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AutoShape 27"/>
              <p:cNvSpPr/>
              <p:nvPr/>
            </p:nvSpPr>
            <p:spPr>
              <a:xfrm flipH="1">
                <a:off x="5550840" y="5566680"/>
                <a:ext cx="576360" cy="5155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Rectangle 37"/>
          <p:cNvSpPr/>
          <p:nvPr/>
        </p:nvSpPr>
        <p:spPr>
          <a:xfrm>
            <a:off x="685800" y="285264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0 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38"/>
          <p:cNvSpPr/>
          <p:nvPr/>
        </p:nvSpPr>
        <p:spPr>
          <a:xfrm>
            <a:off x="5077080" y="573408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126680" y="1304640"/>
            <a:ext cx="1492920" cy="1759680"/>
            <a:chOff x="4126680" y="1304640"/>
            <a:chExt cx="1492920" cy="1759680"/>
          </a:xfrm>
        </p:grpSpPr>
        <p:sp>
          <p:nvSpPr>
            <p:cNvPr id="351" name="AutoShape 44"/>
            <p:cNvSpPr/>
            <p:nvPr/>
          </p:nvSpPr>
          <p:spPr>
            <a:xfrm flipH="1" rot="7962600">
              <a:off x="4283640" y="1915200"/>
              <a:ext cx="1055520" cy="891000"/>
            </a:xfrm>
            <a:prstGeom prst="rtTriangle">
              <a:avLst/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45"/>
            <p:cNvSpPr/>
            <p:nvPr/>
          </p:nvSpPr>
          <p:spPr>
            <a:xfrm flipH="1" rot="7962600">
              <a:off x="4406760" y="2154960"/>
              <a:ext cx="527040" cy="445680"/>
            </a:xfrm>
            <a:prstGeom prst="rtTriangle">
              <a:avLst/>
            </a:prstGeom>
            <a:noFill/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802760" y="1304640"/>
              <a:ext cx="816840" cy="1759680"/>
              <a:chOff x="4802760" y="1304640"/>
              <a:chExt cx="816840" cy="1759680"/>
            </a:xfrm>
          </p:grpSpPr>
          <p:sp>
            <p:nvSpPr>
              <p:cNvPr id="354" name="AutoShape 53"/>
              <p:cNvSpPr/>
              <p:nvPr/>
            </p:nvSpPr>
            <p:spPr>
              <a:xfrm flipH="1" rot="5545200">
                <a:off x="4345920" y="1811880"/>
                <a:ext cx="1729800" cy="7444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AutoShape 54"/>
              <p:cNvSpPr/>
              <p:nvPr/>
            </p:nvSpPr>
            <p:spPr>
              <a:xfrm flipH="1" rot="5545200">
                <a:off x="4705200" y="2140560"/>
                <a:ext cx="806760" cy="3722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Rectangle 66"/>
          <p:cNvSpPr/>
          <p:nvPr/>
        </p:nvSpPr>
        <p:spPr>
          <a:xfrm>
            <a:off x="4500720" y="267192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5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092320" y="1438200"/>
            <a:ext cx="1764720" cy="1676520"/>
            <a:chOff x="2092320" y="1438200"/>
            <a:chExt cx="1764720" cy="1676520"/>
          </a:xfrm>
        </p:grpSpPr>
        <p:grpSp>
          <p:nvGrpSpPr>
            <p:cNvPr id="358" name=""/>
            <p:cNvGrpSpPr/>
            <p:nvPr/>
          </p:nvGrpSpPr>
          <p:grpSpPr>
            <a:xfrm>
              <a:off x="2538360" y="1761840"/>
              <a:ext cx="1318680" cy="1339200"/>
              <a:chOff x="2538360" y="1761840"/>
              <a:chExt cx="1318680" cy="1339200"/>
            </a:xfrm>
          </p:grpSpPr>
          <p:sp>
            <p:nvSpPr>
              <p:cNvPr id="359" name="AutoShape 56"/>
              <p:cNvSpPr/>
              <p:nvPr/>
            </p:nvSpPr>
            <p:spPr>
              <a:xfrm flipH="1" rot="4209000">
                <a:off x="2669400" y="1920600"/>
                <a:ext cx="1055160" cy="10209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AutoShape 57"/>
              <p:cNvSpPr/>
              <p:nvPr/>
            </p:nvSpPr>
            <p:spPr>
              <a:xfrm flipH="1" rot="4209000">
                <a:off x="2857680" y="2305440"/>
                <a:ext cx="492120" cy="5101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092320" y="1438200"/>
              <a:ext cx="1000440" cy="1676520"/>
              <a:chOff x="2092320" y="1438200"/>
              <a:chExt cx="1000440" cy="1676520"/>
            </a:xfrm>
          </p:grpSpPr>
          <p:sp>
            <p:nvSpPr>
              <p:cNvPr id="362" name="AutoShape 69"/>
              <p:cNvSpPr/>
              <p:nvPr/>
            </p:nvSpPr>
            <p:spPr>
              <a:xfrm flipH="1" rot="5865000">
                <a:off x="1800000" y="1879200"/>
                <a:ext cx="1584000" cy="7941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AutoShape 70"/>
              <p:cNvSpPr/>
              <p:nvPr/>
            </p:nvSpPr>
            <p:spPr>
              <a:xfrm flipH="1" rot="5865000">
                <a:off x="2103480" y="2196720"/>
                <a:ext cx="738720" cy="3970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Rectangle 80"/>
          <p:cNvSpPr/>
          <p:nvPr/>
        </p:nvSpPr>
        <p:spPr>
          <a:xfrm>
            <a:off x="2557440" y="27082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 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878080" y="3191400"/>
            <a:ext cx="1940040" cy="1482840"/>
            <a:chOff x="5878080" y="3191400"/>
            <a:chExt cx="1940040" cy="1482840"/>
          </a:xfrm>
        </p:grpSpPr>
        <p:grpSp>
          <p:nvGrpSpPr>
            <p:cNvPr id="366" name=""/>
            <p:cNvGrpSpPr/>
            <p:nvPr/>
          </p:nvGrpSpPr>
          <p:grpSpPr>
            <a:xfrm>
              <a:off x="5878080" y="3191400"/>
              <a:ext cx="1277640" cy="1482840"/>
              <a:chOff x="5878080" y="3191400"/>
              <a:chExt cx="1277640" cy="1482840"/>
            </a:xfrm>
          </p:grpSpPr>
          <p:sp>
            <p:nvSpPr>
              <p:cNvPr id="367" name="AutoShape 72"/>
              <p:cNvSpPr/>
              <p:nvPr/>
            </p:nvSpPr>
            <p:spPr>
              <a:xfrm flipH="1" rot="18023400">
                <a:off x="5868360" y="3572280"/>
                <a:ext cx="1296360" cy="7207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AutoShape 73"/>
              <p:cNvSpPr/>
              <p:nvPr/>
            </p:nvSpPr>
            <p:spPr>
              <a:xfrm flipH="1" rot="18023400">
                <a:off x="6350040" y="3704760"/>
                <a:ext cx="604800" cy="3607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6510960" y="3349800"/>
              <a:ext cx="1307160" cy="1306800"/>
              <a:chOff x="6510960" y="3349800"/>
              <a:chExt cx="1307160" cy="1306800"/>
            </a:xfrm>
          </p:grpSpPr>
          <p:sp>
            <p:nvSpPr>
              <p:cNvPr id="370" name="AutoShape 90"/>
              <p:cNvSpPr/>
              <p:nvPr/>
            </p:nvSpPr>
            <p:spPr>
              <a:xfrm flipH="1" rot="5368200">
                <a:off x="6516720" y="3355560"/>
                <a:ext cx="1294920" cy="12952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AutoShape 91"/>
              <p:cNvSpPr/>
              <p:nvPr/>
            </p:nvSpPr>
            <p:spPr>
              <a:xfrm flipH="1" rot="5368200">
                <a:off x="6696000" y="3791520"/>
                <a:ext cx="604080" cy="6469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2" name=""/>
          <p:cNvGrpSpPr/>
          <p:nvPr/>
        </p:nvGrpSpPr>
        <p:grpSpPr>
          <a:xfrm>
            <a:off x="397080" y="3245400"/>
            <a:ext cx="2305440" cy="1465920"/>
            <a:chOff x="397080" y="3245400"/>
            <a:chExt cx="2305440" cy="1465920"/>
          </a:xfrm>
        </p:grpSpPr>
        <p:grpSp>
          <p:nvGrpSpPr>
            <p:cNvPr id="373" name=""/>
            <p:cNvGrpSpPr/>
            <p:nvPr/>
          </p:nvGrpSpPr>
          <p:grpSpPr>
            <a:xfrm>
              <a:off x="1063800" y="3739320"/>
              <a:ext cx="1638720" cy="972000"/>
              <a:chOff x="1063800" y="3739320"/>
              <a:chExt cx="1638720" cy="972000"/>
            </a:xfrm>
          </p:grpSpPr>
          <p:sp>
            <p:nvSpPr>
              <p:cNvPr id="374" name="AutoShape 87"/>
              <p:cNvSpPr/>
              <p:nvPr/>
            </p:nvSpPr>
            <p:spPr>
              <a:xfrm flipH="1" rot="11040600">
                <a:off x="1091880" y="3793320"/>
                <a:ext cx="1582200" cy="8636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AutoShape 88"/>
              <p:cNvSpPr/>
              <p:nvPr/>
            </p:nvSpPr>
            <p:spPr>
              <a:xfrm flipH="1" rot="11040600">
                <a:off x="1387440" y="3889080"/>
                <a:ext cx="738000" cy="4316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97080" y="3245400"/>
              <a:ext cx="1364760" cy="1373400"/>
              <a:chOff x="397080" y="3245400"/>
              <a:chExt cx="1364760" cy="1373400"/>
            </a:xfrm>
          </p:grpSpPr>
          <p:sp>
            <p:nvSpPr>
              <p:cNvPr id="377" name="AutoShape 93"/>
              <p:cNvSpPr/>
              <p:nvPr/>
            </p:nvSpPr>
            <p:spPr>
              <a:xfrm flipH="1" rot="8388000">
                <a:off x="610920" y="3428640"/>
                <a:ext cx="936360" cy="10065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AutoShape 94"/>
              <p:cNvSpPr/>
              <p:nvPr/>
            </p:nvSpPr>
            <p:spPr>
              <a:xfrm flipH="1" rot="8388000">
                <a:off x="716400" y="3632760"/>
                <a:ext cx="436680" cy="5029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3319920" y="3456360"/>
            <a:ext cx="1582560" cy="1476000"/>
            <a:chOff x="3319920" y="3456360"/>
            <a:chExt cx="1582560" cy="1476000"/>
          </a:xfrm>
        </p:grpSpPr>
        <p:grpSp>
          <p:nvGrpSpPr>
            <p:cNvPr id="380" name=""/>
            <p:cNvGrpSpPr/>
            <p:nvPr/>
          </p:nvGrpSpPr>
          <p:grpSpPr>
            <a:xfrm>
              <a:off x="3319920" y="3456360"/>
              <a:ext cx="1280160" cy="1435680"/>
              <a:chOff x="3319920" y="3456360"/>
              <a:chExt cx="1280160" cy="1435680"/>
            </a:xfrm>
          </p:grpSpPr>
          <p:sp>
            <p:nvSpPr>
              <p:cNvPr id="381" name="AutoShape 50"/>
              <p:cNvSpPr/>
              <p:nvPr/>
            </p:nvSpPr>
            <p:spPr>
              <a:xfrm flipH="1" rot="9034200">
                <a:off x="3564000" y="3573000"/>
                <a:ext cx="792000" cy="12016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AutoShape 51"/>
              <p:cNvSpPr/>
              <p:nvPr/>
            </p:nvSpPr>
            <p:spPr>
              <a:xfrm flipH="1" rot="9034200">
                <a:off x="3640320" y="3772080"/>
                <a:ext cx="369360" cy="6004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00240" y="3796920"/>
              <a:ext cx="1002240" cy="1135440"/>
              <a:chOff x="3900240" y="3796920"/>
              <a:chExt cx="1002240" cy="1135440"/>
            </a:xfrm>
          </p:grpSpPr>
          <p:sp>
            <p:nvSpPr>
              <p:cNvPr id="384" name="AutoShape 96"/>
              <p:cNvSpPr/>
              <p:nvPr/>
            </p:nvSpPr>
            <p:spPr>
              <a:xfrm flipH="1" rot="11020200">
                <a:off x="3933720" y="3825360"/>
                <a:ext cx="935280" cy="10778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AutoShape 97"/>
              <p:cNvSpPr/>
              <p:nvPr/>
            </p:nvSpPr>
            <p:spPr>
              <a:xfrm flipH="1" rot="11020200">
                <a:off x="4112280" y="3951360"/>
                <a:ext cx="436320" cy="5385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6" name="Rectangle 99"/>
          <p:cNvSpPr/>
          <p:nvPr/>
        </p:nvSpPr>
        <p:spPr>
          <a:xfrm>
            <a:off x="3709800" y="429264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 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1"/>
          <p:cNvSpPr/>
          <p:nvPr/>
        </p:nvSpPr>
        <p:spPr>
          <a:xfrm>
            <a:off x="826920" y="4149720"/>
            <a:ext cx="7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5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0"/>
          <p:cNvSpPr/>
          <p:nvPr/>
        </p:nvSpPr>
        <p:spPr>
          <a:xfrm>
            <a:off x="6517080" y="429264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0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02680" y="4938480"/>
            <a:ext cx="1357920" cy="1444320"/>
            <a:chOff x="202680" y="4938480"/>
            <a:chExt cx="1357920" cy="1444320"/>
          </a:xfrm>
        </p:grpSpPr>
        <p:grpSp>
          <p:nvGrpSpPr>
            <p:cNvPr id="390" name=""/>
            <p:cNvGrpSpPr/>
            <p:nvPr/>
          </p:nvGrpSpPr>
          <p:grpSpPr>
            <a:xfrm>
              <a:off x="826560" y="4938480"/>
              <a:ext cx="734040" cy="1444320"/>
              <a:chOff x="826560" y="4938480"/>
              <a:chExt cx="734040" cy="1444320"/>
            </a:xfrm>
          </p:grpSpPr>
          <p:sp>
            <p:nvSpPr>
              <p:cNvPr id="391" name="AutoShape 104"/>
              <p:cNvSpPr/>
              <p:nvPr/>
            </p:nvSpPr>
            <p:spPr>
              <a:xfrm flipH="1" rot="5368200">
                <a:off x="474120" y="5300280"/>
                <a:ext cx="1437840" cy="7207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AutoShape 105"/>
              <p:cNvSpPr/>
              <p:nvPr/>
            </p:nvSpPr>
            <p:spPr>
              <a:xfrm flipH="1" rot="5368200">
                <a:off x="766440" y="5603040"/>
                <a:ext cx="670680" cy="36036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02680" y="5123160"/>
              <a:ext cx="1254960" cy="1258200"/>
              <a:chOff x="202680" y="5123160"/>
              <a:chExt cx="1254960" cy="1258200"/>
            </a:xfrm>
          </p:grpSpPr>
          <p:sp>
            <p:nvSpPr>
              <p:cNvPr id="394" name="AutoShape 112"/>
              <p:cNvSpPr/>
              <p:nvPr/>
            </p:nvSpPr>
            <p:spPr>
              <a:xfrm flipH="1" rot="18703800">
                <a:off x="375120" y="5316840"/>
                <a:ext cx="909720" cy="8701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AutoShape 113"/>
              <p:cNvSpPr/>
              <p:nvPr/>
            </p:nvSpPr>
            <p:spPr>
              <a:xfrm flipH="1" rot="18703800">
                <a:off x="753480" y="5551560"/>
                <a:ext cx="424080" cy="4348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3346200" y="5225400"/>
            <a:ext cx="1127880" cy="1163160"/>
            <a:chOff x="3346200" y="5225400"/>
            <a:chExt cx="1127880" cy="1163160"/>
          </a:xfrm>
        </p:grpSpPr>
        <p:grpSp>
          <p:nvGrpSpPr>
            <p:cNvPr id="397" name=""/>
            <p:cNvGrpSpPr/>
            <p:nvPr/>
          </p:nvGrpSpPr>
          <p:grpSpPr>
            <a:xfrm>
              <a:off x="3347280" y="5225400"/>
              <a:ext cx="769680" cy="1130760"/>
              <a:chOff x="3347280" y="5225400"/>
              <a:chExt cx="769680" cy="1130760"/>
            </a:xfrm>
          </p:grpSpPr>
          <p:sp>
            <p:nvSpPr>
              <p:cNvPr id="398" name="AutoShape 84"/>
              <p:cNvSpPr/>
              <p:nvPr/>
            </p:nvSpPr>
            <p:spPr>
              <a:xfrm flipH="1" rot="5367000">
                <a:off x="3170160" y="5411160"/>
                <a:ext cx="1123560" cy="7588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AutoShape 85"/>
              <p:cNvSpPr/>
              <p:nvPr/>
            </p:nvSpPr>
            <p:spPr>
              <a:xfrm flipH="1" rot="5367000">
                <a:off x="3373200" y="5697360"/>
                <a:ext cx="523800" cy="3794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346200" y="5623920"/>
              <a:ext cx="1127880" cy="764640"/>
              <a:chOff x="3346200" y="5623920"/>
              <a:chExt cx="1127880" cy="764640"/>
            </a:xfrm>
          </p:grpSpPr>
          <p:sp>
            <p:nvSpPr>
              <p:cNvPr id="401" name="AutoShape 120"/>
              <p:cNvSpPr/>
              <p:nvPr/>
            </p:nvSpPr>
            <p:spPr>
              <a:xfrm flipH="1" rot="10781400">
                <a:off x="3347640" y="5626800"/>
                <a:ext cx="1123920" cy="7585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AutoShape 121"/>
              <p:cNvSpPr/>
              <p:nvPr/>
            </p:nvSpPr>
            <p:spPr>
              <a:xfrm flipH="1" rot="10781400">
                <a:off x="3551400" y="5719680"/>
                <a:ext cx="524160" cy="37908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Rectangle 123"/>
          <p:cNvSpPr/>
          <p:nvPr/>
        </p:nvSpPr>
        <p:spPr>
          <a:xfrm>
            <a:off x="3420000" y="609300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29"/>
          <p:cNvSpPr/>
          <p:nvPr/>
        </p:nvSpPr>
        <p:spPr>
          <a:xfrm>
            <a:off x="826920" y="6056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908320" y="1652040"/>
            <a:ext cx="1720800" cy="1559520"/>
            <a:chOff x="5908320" y="1652040"/>
            <a:chExt cx="1720800" cy="1559520"/>
          </a:xfrm>
        </p:grpSpPr>
        <p:grpSp>
          <p:nvGrpSpPr>
            <p:cNvPr id="406" name=""/>
            <p:cNvGrpSpPr/>
            <p:nvPr/>
          </p:nvGrpSpPr>
          <p:grpSpPr>
            <a:xfrm>
              <a:off x="5908320" y="1652040"/>
              <a:ext cx="907920" cy="1392480"/>
              <a:chOff x="5908320" y="1652040"/>
              <a:chExt cx="907920" cy="1392480"/>
            </a:xfrm>
          </p:grpSpPr>
          <p:sp>
            <p:nvSpPr>
              <p:cNvPr id="407" name="AutoShape 132"/>
              <p:cNvSpPr/>
              <p:nvPr/>
            </p:nvSpPr>
            <p:spPr>
              <a:xfrm flipH="1" rot="16713600">
                <a:off x="5712480" y="1986840"/>
                <a:ext cx="1299240" cy="7225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AutoShape 133"/>
              <p:cNvSpPr/>
              <p:nvPr/>
            </p:nvSpPr>
            <p:spPr>
              <a:xfrm flipH="1" rot="16713600">
                <a:off x="6167880" y="2072160"/>
                <a:ext cx="605880" cy="3614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607800" y="2158200"/>
              <a:ext cx="1021320" cy="1053360"/>
              <a:chOff x="6607800" y="2158200"/>
              <a:chExt cx="1021320" cy="1053360"/>
            </a:xfrm>
          </p:grpSpPr>
          <p:sp>
            <p:nvSpPr>
              <p:cNvPr id="410" name="AutoShape 135"/>
              <p:cNvSpPr/>
              <p:nvPr/>
            </p:nvSpPr>
            <p:spPr>
              <a:xfrm flipH="1" rot="6016200">
                <a:off x="6661800" y="2248200"/>
                <a:ext cx="912600" cy="87264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AutoShape 136"/>
              <p:cNvSpPr/>
              <p:nvPr/>
            </p:nvSpPr>
            <p:spPr>
              <a:xfrm flipH="1" rot="6016200">
                <a:off x="6780600" y="2522520"/>
                <a:ext cx="425520" cy="436320"/>
              </a:xfrm>
              <a:prstGeom prst="rtTriangle">
                <a:avLst/>
              </a:prstGeom>
              <a:noFill/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Rectangle 138"/>
          <p:cNvSpPr/>
          <p:nvPr/>
        </p:nvSpPr>
        <p:spPr>
          <a:xfrm>
            <a:off x="6443640" y="2708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0 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739800" y="85104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通过本堂课的探索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你学会了什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有何收获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最想说的一句话是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905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比较角的大小的两种方法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162240" y="152280"/>
            <a:ext cx="22478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9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316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a42700"/>
                    </a:gs>
                    <a:gs pos="50000">
                      <a:srgbClr val="ff3300"/>
                    </a:gs>
                    <a:gs pos="100000">
                      <a:srgbClr val="a427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黑体"/>
              </a:rPr>
              <a:t>交流总结</a:t>
            </a:r>
            <a:endParaRPr b="1" lang="en-US" sz="9600" spc="1" strike="noStrike">
              <a:ln w="316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a42700"/>
                  </a:gs>
                  <a:gs pos="50000">
                    <a:srgbClr val="ff3300"/>
                  </a:gs>
                  <a:gs pos="100000">
                    <a:srgbClr val="a427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16" name=""/>
          <p:cNvSpPr/>
          <p:nvPr/>
        </p:nvSpPr>
        <p:spPr>
          <a:xfrm>
            <a:off x="1143000" y="2438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度量法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叠合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2320" y="4194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锐角、直角、钝角、平角、周角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33908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角的分类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971640" y="1627920"/>
            <a:ext cx="4608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业本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1440000"/>
            <a:ext cx="7345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学习目标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理解角的大小的概念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会用度量法比较两个角的大小；了解比较两个角的大小的叠合方法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理解角的分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会用量角器作一个角等于已知角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246680"/>
            <a:ext cx="7848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教学设计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通过学生自己画任意画一个角与同桌同学所画进行大小比较，交流比较的方法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介绍角的分类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运用画一个角等于已知角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方正行楷简体"/>
                <a:ea typeface="方正行楷简体"/>
              </a:rPr>
              <a:t>、例题讲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39640" y="47628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探索实践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08000" y="18874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们在自己的本子上画出一个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下箭头 5"/>
          <p:cNvSpPr/>
          <p:nvPr/>
        </p:nvSpPr>
        <p:spPr>
          <a:xfrm>
            <a:off x="3635280" y="2492280"/>
            <a:ext cx="360360" cy="64944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971640" y="3184560"/>
            <a:ext cx="81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桌之间相互比较，谁的角更大？并说说如何来比较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下箭头 7"/>
          <p:cNvSpPr/>
          <p:nvPr/>
        </p:nvSpPr>
        <p:spPr>
          <a:xfrm>
            <a:off x="3635280" y="3860640"/>
            <a:ext cx="360360" cy="64800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71640" y="4653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比线段的大小比较方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扇子4"/>
          <p:cNvPicPr/>
          <p:nvPr/>
        </p:nvPicPr>
        <p:blipFill>
          <a:blip r:embed="rId2"/>
          <a:stretch/>
        </p:blipFill>
        <p:spPr>
          <a:xfrm>
            <a:off x="7086600" y="5562720"/>
            <a:ext cx="2057400" cy="1295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981000"/>
            <a:ext cx="8294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0a05"/>
                </a:solidFill>
                <a:latin typeface="Times New Roman"/>
              </a:rPr>
              <a:t>方法一</a:t>
            </a:r>
            <a:r>
              <a:rPr b="1" lang="zh-CN" sz="3200" spc="-1" strike="noStrike">
                <a:solidFill>
                  <a:srgbClr val="e30a05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度量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即用量角器量出角的度数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通过比较角的度数来比较角的大小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度数大的角大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度数小的角小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反之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角大度数就大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角小度数就小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A240335010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28600" y="3200400"/>
            <a:ext cx="3581280" cy="2725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A240335010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394160" y="3213000"/>
            <a:ext cx="3657600" cy="269244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1981080" y="3505320"/>
            <a:ext cx="2590920" cy="1752480"/>
            <a:chOff x="1981080" y="3505320"/>
            <a:chExt cx="2590920" cy="1752480"/>
          </a:xfrm>
        </p:grpSpPr>
        <p:sp>
          <p:nvSpPr>
            <p:cNvPr id="63" name="Line 10"/>
            <p:cNvSpPr/>
            <p:nvPr/>
          </p:nvSpPr>
          <p:spPr>
            <a:xfrm flipV="1">
              <a:off x="1981080" y="3505320"/>
              <a:ext cx="144792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1981080" y="52578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248520" y="3200040"/>
            <a:ext cx="2666880" cy="2057760"/>
            <a:chOff x="6248520" y="3200040"/>
            <a:chExt cx="2666880" cy="2057760"/>
          </a:xfrm>
        </p:grpSpPr>
        <p:sp>
          <p:nvSpPr>
            <p:cNvPr id="66" name="Line 13"/>
            <p:cNvSpPr/>
            <p:nvPr/>
          </p:nvSpPr>
          <p:spPr>
            <a:xfrm>
              <a:off x="6248520" y="5257800"/>
              <a:ext cx="26668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 flipV="1">
              <a:off x="6248520" y="3200040"/>
              <a:ext cx="838080" cy="2057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Rectangle 15"/>
          <p:cNvSpPr/>
          <p:nvPr/>
        </p:nvSpPr>
        <p:spPr>
          <a:xfrm>
            <a:off x="3320280" y="38894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7130160" y="34322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rc 17"/>
          <p:cNvSpPr/>
          <p:nvPr/>
        </p:nvSpPr>
        <p:spPr>
          <a:xfrm>
            <a:off x="2362320" y="4876920"/>
            <a:ext cx="152280" cy="3808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rc 18"/>
          <p:cNvSpPr/>
          <p:nvPr/>
        </p:nvSpPr>
        <p:spPr>
          <a:xfrm>
            <a:off x="6477120" y="4800600"/>
            <a:ext cx="380880" cy="457200"/>
          </a:xfrm>
          <a:prstGeom prst="pi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2590920" y="4724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6858000" y="4648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ordArt 21" descr=""/>
          <p:cNvPicPr/>
          <p:nvPr/>
        </p:nvPicPr>
        <p:blipFill>
          <a:blip r:embed="rId5"/>
          <a:stretch/>
        </p:blipFill>
        <p:spPr>
          <a:xfrm>
            <a:off x="-68400" y="176040"/>
            <a:ext cx="4415040" cy="622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18"/>
          <p:cNvSpPr/>
          <p:nvPr/>
        </p:nvSpPr>
        <p:spPr>
          <a:xfrm>
            <a:off x="826920" y="59500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∠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79280" y="765000"/>
            <a:ext cx="7925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0a05"/>
                </a:solidFill>
                <a:latin typeface="Times New Roman"/>
              </a:rPr>
              <a:t>方法二</a:t>
            </a:r>
            <a:r>
              <a:rPr b="1" lang="zh-CN" sz="3200" spc="-1" strike="noStrike">
                <a:solidFill>
                  <a:srgbClr val="e30a05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叠合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11"/>
                </a:solidFill>
                <a:latin typeface="Times New Roman"/>
              </a:rPr>
              <a:t>　　把一个角放到另一个角上，使它们的顶点重合，其中一边也重合，并使两个角的另一边都在重合的边的同侧</a:t>
            </a:r>
            <a:r>
              <a:rPr b="1" lang="en-US" sz="32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124080" y="3733920"/>
            <a:ext cx="2590920" cy="1752480"/>
            <a:chOff x="3124080" y="3733920"/>
            <a:chExt cx="2590920" cy="1752480"/>
          </a:xfrm>
        </p:grpSpPr>
        <p:sp>
          <p:nvSpPr>
            <p:cNvPr id="78" name="Text Box 19"/>
            <p:cNvSpPr/>
            <p:nvPr/>
          </p:nvSpPr>
          <p:spPr>
            <a:xfrm>
              <a:off x="3591720" y="495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3352680" y="5181840"/>
              <a:ext cx="228600" cy="304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1"/>
            <p:cNvSpPr/>
            <p:nvPr/>
          </p:nvSpPr>
          <p:spPr>
            <a:xfrm flipV="1">
              <a:off x="3124080" y="3733920"/>
              <a:ext cx="144792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2"/>
            <p:cNvSpPr/>
            <p:nvPr/>
          </p:nvSpPr>
          <p:spPr>
            <a:xfrm>
              <a:off x="3124080" y="548640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124080" y="3428640"/>
            <a:ext cx="2666880" cy="2057760"/>
            <a:chOff x="3124080" y="3428640"/>
            <a:chExt cx="2666880" cy="2057760"/>
          </a:xfrm>
        </p:grpSpPr>
        <p:sp>
          <p:nvSpPr>
            <p:cNvPr id="83" name="Text Box 24"/>
            <p:cNvSpPr/>
            <p:nvPr/>
          </p:nvSpPr>
          <p:spPr>
            <a:xfrm>
              <a:off x="3745800" y="48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rc 25"/>
            <p:cNvSpPr/>
            <p:nvPr/>
          </p:nvSpPr>
          <p:spPr>
            <a:xfrm>
              <a:off x="3352680" y="5032440"/>
              <a:ext cx="320760" cy="428400"/>
            </a:xfrm>
            <a:prstGeom prst="pie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124080" y="3428640"/>
              <a:ext cx="2666880" cy="2057760"/>
              <a:chOff x="3124080" y="3428640"/>
              <a:chExt cx="2666880" cy="205776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124080" y="3428640"/>
                <a:ext cx="2666880" cy="2057760"/>
                <a:chOff x="3124080" y="3428640"/>
                <a:chExt cx="2666880" cy="2057760"/>
              </a:xfrm>
            </p:grpSpPr>
            <p:sp>
              <p:nvSpPr>
                <p:cNvPr id="87" name="Line 28"/>
                <p:cNvSpPr/>
                <p:nvPr/>
              </p:nvSpPr>
              <p:spPr>
                <a:xfrm>
                  <a:off x="3124080" y="5486400"/>
                  <a:ext cx="26668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Line 29"/>
                <p:cNvSpPr/>
                <p:nvPr/>
              </p:nvSpPr>
              <p:spPr>
                <a:xfrm flipV="1">
                  <a:off x="3124080" y="3428640"/>
                  <a:ext cx="838080" cy="205740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Text Box 30"/>
              <p:cNvSpPr/>
              <p:nvPr/>
            </p:nvSpPr>
            <p:spPr>
              <a:xfrm>
                <a:off x="3276360" y="509112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0" name="Picture 33" descr="0088"/>
          <p:cNvPicPr/>
          <p:nvPr/>
        </p:nvPicPr>
        <p:blipFill>
          <a:blip r:embed="rId2"/>
          <a:stretch/>
        </p:blipFill>
        <p:spPr>
          <a:xfrm>
            <a:off x="7689960" y="5095800"/>
            <a:ext cx="1454040" cy="175284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34" descr=""/>
          <p:cNvPicPr/>
          <p:nvPr/>
        </p:nvPicPr>
        <p:blipFill>
          <a:blip r:embed="rId3"/>
          <a:stretch/>
        </p:blipFill>
        <p:spPr>
          <a:xfrm>
            <a:off x="-68400" y="103320"/>
            <a:ext cx="44150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TextBox 18"/>
          <p:cNvSpPr/>
          <p:nvPr/>
        </p:nvSpPr>
        <p:spPr>
          <a:xfrm>
            <a:off x="826920" y="5805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∠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3"/>
          <p:cNvSpPr/>
          <p:nvPr/>
        </p:nvSpPr>
        <p:spPr>
          <a:xfrm>
            <a:off x="2916360" y="26028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请比较每组图中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的大小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907920"/>
            <a:ext cx="9372600" cy="3629520"/>
            <a:chOff x="0" y="907920"/>
            <a:chExt cx="9372600" cy="3629520"/>
          </a:xfrm>
        </p:grpSpPr>
        <p:sp>
          <p:nvSpPr>
            <p:cNvPr id="95" name="Text Box 65"/>
            <p:cNvSpPr/>
            <p:nvPr/>
          </p:nvSpPr>
          <p:spPr>
            <a:xfrm>
              <a:off x="6400800" y="2079360"/>
              <a:ext cx="19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66"/>
            <p:cNvSpPr/>
            <p:nvPr/>
          </p:nvSpPr>
          <p:spPr>
            <a:xfrm>
              <a:off x="838080" y="2660400"/>
              <a:ext cx="1676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67"/>
            <p:cNvSpPr/>
            <p:nvPr/>
          </p:nvSpPr>
          <p:spPr>
            <a:xfrm>
              <a:off x="6400800" y="2355840"/>
              <a:ext cx="19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68"/>
            <p:cNvSpPr/>
            <p:nvPr/>
          </p:nvSpPr>
          <p:spPr>
            <a:xfrm>
              <a:off x="0" y="1241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9"/>
            <p:cNvSpPr/>
            <p:nvPr/>
          </p:nvSpPr>
          <p:spPr>
            <a:xfrm>
              <a:off x="3200400" y="1241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70"/>
            <p:cNvSpPr/>
            <p:nvPr/>
          </p:nvSpPr>
          <p:spPr>
            <a:xfrm>
              <a:off x="6324480" y="1241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71"/>
            <p:cNvSpPr/>
            <p:nvPr/>
          </p:nvSpPr>
          <p:spPr>
            <a:xfrm>
              <a:off x="228600" y="2965320"/>
              <a:ext cx="2590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E                        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72"/>
            <p:cNvSpPr/>
            <p:nvPr/>
          </p:nvSpPr>
          <p:spPr>
            <a:xfrm>
              <a:off x="6248520" y="1850760"/>
              <a:ext cx="304776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3906de"/>
                  </a:solidFill>
                  <a:latin typeface="Times New Roman"/>
                </a:rPr>
                <a:t>E                          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73"/>
            <p:cNvSpPr/>
            <p:nvPr/>
          </p:nvSpPr>
          <p:spPr>
            <a:xfrm>
              <a:off x="762120" y="3984480"/>
              <a:ext cx="19080" cy="76320"/>
            </a:xfrm>
            <a:prstGeom prst="pie">
              <a:avLst/>
            </a:prstGeom>
            <a:noFill/>
            <a:ln w="9360">
              <a:solidFill>
                <a:srgbClr val="0d0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74"/>
            <p:cNvSpPr/>
            <p:nvPr/>
          </p:nvSpPr>
          <p:spPr>
            <a:xfrm>
              <a:off x="6932520" y="3946320"/>
              <a:ext cx="77760" cy="114480"/>
            </a:xfrm>
            <a:prstGeom prst="pie">
              <a:avLst/>
            </a:prstGeom>
            <a:noFill/>
            <a:ln w="9360">
              <a:solidFill>
                <a:srgbClr val="0d0d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>
              <a:off x="306720" y="207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6"/>
            <p:cNvSpPr/>
            <p:nvPr/>
          </p:nvSpPr>
          <p:spPr>
            <a:xfrm>
              <a:off x="1752480" y="1393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77"/>
            <p:cNvSpPr/>
            <p:nvPr/>
          </p:nvSpPr>
          <p:spPr>
            <a:xfrm>
              <a:off x="760320" y="2117520"/>
              <a:ext cx="77760" cy="114480"/>
            </a:xfrm>
            <a:prstGeom prst="pie">
              <a:avLst/>
            </a:prstGeom>
            <a:noFill/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78"/>
            <p:cNvSpPr/>
            <p:nvPr/>
          </p:nvSpPr>
          <p:spPr>
            <a:xfrm>
              <a:off x="533520" y="2232000"/>
              <a:ext cx="1523880" cy="0"/>
            </a:xfrm>
            <a:prstGeom prst="line">
              <a:avLst/>
            </a:prstGeom>
            <a:ln w="648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9"/>
            <p:cNvSpPr/>
            <p:nvPr/>
          </p:nvSpPr>
          <p:spPr>
            <a:xfrm flipV="1">
              <a:off x="533520" y="1545840"/>
              <a:ext cx="1295280" cy="685800"/>
            </a:xfrm>
            <a:prstGeom prst="line">
              <a:avLst/>
            </a:prstGeom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80"/>
            <p:cNvSpPr/>
            <p:nvPr/>
          </p:nvSpPr>
          <p:spPr>
            <a:xfrm>
              <a:off x="1982520" y="2079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81044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1"/>
            <p:cNvSpPr/>
            <p:nvPr/>
          </p:nvSpPr>
          <p:spPr>
            <a:xfrm>
              <a:off x="533520" y="4060800"/>
              <a:ext cx="1752480" cy="0"/>
            </a:xfrm>
            <a:prstGeom prst="line">
              <a:avLst/>
            </a:prstGeom>
            <a:ln w="9360">
              <a:solidFill>
                <a:srgbClr val="3906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82"/>
            <p:cNvSpPr/>
            <p:nvPr/>
          </p:nvSpPr>
          <p:spPr>
            <a:xfrm flipV="1">
              <a:off x="533520" y="3298320"/>
              <a:ext cx="1447560" cy="762120"/>
            </a:xfrm>
            <a:prstGeom prst="line">
              <a:avLst/>
            </a:prstGeom>
            <a:ln w="9360">
              <a:solidFill>
                <a:srgbClr val="3906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276720" y="2736720"/>
              <a:ext cx="2819160" cy="1648440"/>
              <a:chOff x="3276720" y="2736720"/>
              <a:chExt cx="2819160" cy="1648440"/>
            </a:xfrm>
          </p:grpSpPr>
          <p:sp>
            <p:nvSpPr>
              <p:cNvPr id="114" name="Text Box 84"/>
              <p:cNvSpPr/>
              <p:nvPr/>
            </p:nvSpPr>
            <p:spPr>
              <a:xfrm>
                <a:off x="3657240" y="2736720"/>
                <a:ext cx="1752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Text Box 85"/>
              <p:cNvSpPr/>
              <p:nvPr/>
            </p:nvSpPr>
            <p:spPr>
              <a:xfrm>
                <a:off x="3276720" y="2813040"/>
                <a:ext cx="281916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</a:t>
                </a:r>
                <a:r>
                  <a:rPr b="0" lang="en-US" sz="2400" spc="-1" strike="noStrike">
                    <a:solidFill>
                      <a:srgbClr val="3906de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906de"/>
                    </a:solidFill>
                    <a:latin typeface="Times New Roman"/>
                  </a:rPr>
                  <a:t>E                             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86"/>
              <p:cNvSpPr/>
              <p:nvPr/>
            </p:nvSpPr>
            <p:spPr>
              <a:xfrm>
                <a:off x="3657240" y="4060800"/>
                <a:ext cx="1904760" cy="0"/>
              </a:xfrm>
              <a:prstGeom prst="line">
                <a:avLst/>
              </a:prstGeom>
              <a:ln w="9360">
                <a:solidFill>
                  <a:srgbClr val="3906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87"/>
              <p:cNvSpPr/>
              <p:nvPr/>
            </p:nvSpPr>
            <p:spPr>
              <a:xfrm flipV="1">
                <a:off x="3657240" y="3222000"/>
                <a:ext cx="1676160" cy="838440"/>
              </a:xfrm>
              <a:prstGeom prst="line">
                <a:avLst/>
              </a:prstGeom>
              <a:ln w="9360">
                <a:solidFill>
                  <a:srgbClr val="3906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88"/>
              <p:cNvSpPr/>
              <p:nvPr/>
            </p:nvSpPr>
            <p:spPr>
              <a:xfrm>
                <a:off x="3885840" y="3946320"/>
                <a:ext cx="77400" cy="114480"/>
              </a:xfrm>
              <a:prstGeom prst="pie">
                <a:avLst/>
              </a:prstGeom>
              <a:noFill/>
              <a:ln w="9360">
                <a:solidFill>
                  <a:srgbClr val="3906d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Line 89"/>
            <p:cNvSpPr/>
            <p:nvPr/>
          </p:nvSpPr>
          <p:spPr>
            <a:xfrm>
              <a:off x="6781680" y="4060800"/>
              <a:ext cx="2133720" cy="0"/>
            </a:xfrm>
            <a:prstGeom prst="line">
              <a:avLst/>
            </a:prstGeom>
            <a:ln w="9360">
              <a:solidFill>
                <a:srgbClr val="3906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90"/>
            <p:cNvSpPr/>
            <p:nvPr/>
          </p:nvSpPr>
          <p:spPr>
            <a:xfrm flipV="1">
              <a:off x="6781680" y="2612880"/>
              <a:ext cx="1447920" cy="1447920"/>
            </a:xfrm>
            <a:prstGeom prst="line">
              <a:avLst/>
            </a:prstGeom>
            <a:ln w="9360">
              <a:solidFill>
                <a:srgbClr val="3906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352680" y="936360"/>
              <a:ext cx="2895480" cy="1572120"/>
              <a:chOff x="3352680" y="936360"/>
              <a:chExt cx="2895480" cy="1572120"/>
            </a:xfrm>
          </p:grpSpPr>
          <p:sp>
            <p:nvSpPr>
              <p:cNvPr id="122" name="Text Box 92"/>
              <p:cNvSpPr/>
              <p:nvPr/>
            </p:nvSpPr>
            <p:spPr>
              <a:xfrm>
                <a:off x="3352680" y="936360"/>
                <a:ext cx="289548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0" lang="en-US" sz="2400" spc="-1" strike="noStrike">
                    <a:solidFill>
                      <a:srgbClr val="d81044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81044"/>
                    </a:solidFill>
                    <a:latin typeface="Times New Roman"/>
                  </a:rPr>
                  <a:t>B                      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93"/>
              <p:cNvSpPr/>
              <p:nvPr/>
            </p:nvSpPr>
            <p:spPr>
              <a:xfrm>
                <a:off x="3809880" y="2269800"/>
                <a:ext cx="77760" cy="114480"/>
              </a:xfrm>
              <a:prstGeom prst="pie">
                <a:avLst/>
              </a:prstGeom>
              <a:noFill/>
              <a:ln w="9360">
                <a:solidFill>
                  <a:srgbClr val="d81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94"/>
              <p:cNvSpPr/>
              <p:nvPr/>
            </p:nvSpPr>
            <p:spPr>
              <a:xfrm>
                <a:off x="3657600" y="2384280"/>
                <a:ext cx="1752480" cy="0"/>
              </a:xfrm>
              <a:prstGeom prst="line">
                <a:avLst/>
              </a:prstGeom>
              <a:ln w="9360">
                <a:solidFill>
                  <a:srgbClr val="d81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95"/>
              <p:cNvSpPr/>
              <p:nvPr/>
            </p:nvSpPr>
            <p:spPr>
              <a:xfrm flipV="1">
                <a:off x="3657600" y="1240920"/>
                <a:ext cx="1447560" cy="1143000"/>
              </a:xfrm>
              <a:prstGeom prst="line">
                <a:avLst/>
              </a:prstGeom>
              <a:ln w="9360">
                <a:solidFill>
                  <a:srgbClr val="d81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477120" y="907920"/>
              <a:ext cx="2895480" cy="1572120"/>
              <a:chOff x="6477120" y="907920"/>
              <a:chExt cx="2895480" cy="1572120"/>
            </a:xfrm>
          </p:grpSpPr>
          <p:sp>
            <p:nvSpPr>
              <p:cNvPr id="127" name="Text Box 97"/>
              <p:cNvSpPr/>
              <p:nvPr/>
            </p:nvSpPr>
            <p:spPr>
              <a:xfrm>
                <a:off x="6477120" y="907920"/>
                <a:ext cx="289548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</a:t>
                </a:r>
                <a:r>
                  <a:rPr b="0" lang="en-US" sz="2400" spc="-1" strike="noStrike">
                    <a:solidFill>
                      <a:srgbClr val="d81044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81044"/>
                    </a:solidFill>
                    <a:latin typeface="Times New Roman"/>
                  </a:rPr>
                  <a:t>B                     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98"/>
              <p:cNvSpPr/>
              <p:nvPr/>
            </p:nvSpPr>
            <p:spPr>
              <a:xfrm>
                <a:off x="7008840" y="2212920"/>
                <a:ext cx="77760" cy="114120"/>
              </a:xfrm>
              <a:prstGeom prst="pie">
                <a:avLst/>
              </a:prstGeom>
              <a:noFill/>
              <a:ln w="9360">
                <a:solidFill>
                  <a:srgbClr val="e30a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99"/>
              <p:cNvSpPr/>
              <p:nvPr/>
            </p:nvSpPr>
            <p:spPr>
              <a:xfrm>
                <a:off x="6782040" y="2355840"/>
                <a:ext cx="1676160" cy="0"/>
              </a:xfrm>
              <a:prstGeom prst="line">
                <a:avLst/>
              </a:prstGeom>
              <a:ln w="9360">
                <a:solidFill>
                  <a:srgbClr val="e30a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00"/>
              <p:cNvSpPr/>
              <p:nvPr/>
            </p:nvSpPr>
            <p:spPr>
              <a:xfrm flipV="1">
                <a:off x="6782040" y="1288800"/>
                <a:ext cx="1447560" cy="1067040"/>
              </a:xfrm>
              <a:prstGeom prst="line">
                <a:avLst/>
              </a:prstGeom>
              <a:ln w="9360">
                <a:solidFill>
                  <a:srgbClr val="e30a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52280" y="4419720"/>
            <a:ext cx="8915400" cy="535680"/>
            <a:chOff x="152280" y="4419720"/>
            <a:chExt cx="8915400" cy="535680"/>
          </a:xfrm>
        </p:grpSpPr>
        <p:sp>
          <p:nvSpPr>
            <p:cNvPr id="132" name="Text Box 102"/>
            <p:cNvSpPr/>
            <p:nvPr/>
          </p:nvSpPr>
          <p:spPr>
            <a:xfrm>
              <a:off x="152280" y="4419720"/>
              <a:ext cx="371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ABC___</a:t>
              </a: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DE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03"/>
            <p:cNvSpPr/>
            <p:nvPr/>
          </p:nvSpPr>
          <p:spPr>
            <a:xfrm>
              <a:off x="3124080" y="4419720"/>
              <a:ext cx="296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ABC____</a:t>
              </a: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DE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4"/>
            <p:cNvSpPr/>
            <p:nvPr/>
          </p:nvSpPr>
          <p:spPr>
            <a:xfrm>
              <a:off x="6249960" y="4495680"/>
              <a:ext cx="281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ABC___</a:t>
              </a:r>
              <a:r>
                <a:rPr b="1" lang="en-US" sz="2400" spc="-1" strike="noStrike">
                  <a:solidFill>
                    <a:srgbClr val="0d0d11"/>
                  </a:solidFill>
                  <a:latin typeface="宋体"/>
                </a:rPr>
                <a:t>∠</a:t>
              </a:r>
              <a:r>
                <a:rPr b="1" lang="en-US" sz="2400" spc="-1" strike="noStrike">
                  <a:solidFill>
                    <a:srgbClr val="0d0d11"/>
                  </a:solidFill>
                  <a:latin typeface="Times New Roman"/>
                </a:rPr>
                <a:t> DE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 Box 105"/>
          <p:cNvSpPr/>
          <p:nvPr/>
        </p:nvSpPr>
        <p:spPr>
          <a:xfrm>
            <a:off x="0" y="5373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11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ED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重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6"/>
          <p:cNvSpPr/>
          <p:nvPr/>
        </p:nvSpPr>
        <p:spPr>
          <a:xfrm>
            <a:off x="2700360" y="5373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落在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∠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DEF 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的外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7"/>
          <p:cNvSpPr/>
          <p:nvPr/>
        </p:nvSpPr>
        <p:spPr>
          <a:xfrm>
            <a:off x="6344640" y="5373720"/>
            <a:ext cx="25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11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d0d11"/>
                </a:solidFill>
                <a:latin typeface="宋体"/>
              </a:rPr>
              <a:t>落在∠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DEF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的内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8"/>
          <p:cNvSpPr/>
          <p:nvPr/>
        </p:nvSpPr>
        <p:spPr>
          <a:xfrm>
            <a:off x="1258920" y="4365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9"/>
          <p:cNvSpPr/>
          <p:nvPr/>
        </p:nvSpPr>
        <p:spPr>
          <a:xfrm>
            <a:off x="4284720" y="4365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0"/>
          <p:cNvSpPr/>
          <p:nvPr/>
        </p:nvSpPr>
        <p:spPr>
          <a:xfrm>
            <a:off x="7380360" y="45086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25800" y="3222720"/>
            <a:ext cx="2040840" cy="1145520"/>
            <a:chOff x="325800" y="3222720"/>
            <a:chExt cx="2040840" cy="1145520"/>
          </a:xfrm>
        </p:grpSpPr>
        <p:sp>
          <p:nvSpPr>
            <p:cNvPr id="142" name="Rectangle 151"/>
            <p:cNvSpPr/>
            <p:nvPr/>
          </p:nvSpPr>
          <p:spPr>
            <a:xfrm>
              <a:off x="325800" y="390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52"/>
            <p:cNvSpPr/>
            <p:nvPr/>
          </p:nvSpPr>
          <p:spPr>
            <a:xfrm>
              <a:off x="1771560" y="322272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53"/>
            <p:cNvSpPr/>
            <p:nvPr/>
          </p:nvSpPr>
          <p:spPr>
            <a:xfrm>
              <a:off x="779400" y="3946680"/>
              <a:ext cx="77400" cy="114120"/>
            </a:xfrm>
            <a:prstGeom prst="pie">
              <a:avLst/>
            </a:prstGeom>
            <a:noFill/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54"/>
            <p:cNvSpPr/>
            <p:nvPr/>
          </p:nvSpPr>
          <p:spPr>
            <a:xfrm>
              <a:off x="552240" y="4060800"/>
              <a:ext cx="1523520" cy="0"/>
            </a:xfrm>
            <a:prstGeom prst="line">
              <a:avLst/>
            </a:prstGeom>
            <a:ln w="648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55"/>
            <p:cNvSpPr/>
            <p:nvPr/>
          </p:nvSpPr>
          <p:spPr>
            <a:xfrm flipV="1">
              <a:off x="552240" y="3374640"/>
              <a:ext cx="1294920" cy="685800"/>
            </a:xfrm>
            <a:prstGeom prst="line">
              <a:avLst/>
            </a:prstGeom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56"/>
            <p:cNvSpPr/>
            <p:nvPr/>
          </p:nvSpPr>
          <p:spPr>
            <a:xfrm>
              <a:off x="2001600" y="3908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81044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373560" y="2610000"/>
            <a:ext cx="2895480" cy="1572120"/>
            <a:chOff x="3373560" y="2610000"/>
            <a:chExt cx="2895480" cy="1572120"/>
          </a:xfrm>
        </p:grpSpPr>
        <p:sp>
          <p:nvSpPr>
            <p:cNvPr id="149" name="Text Box 158"/>
            <p:cNvSpPr/>
            <p:nvPr/>
          </p:nvSpPr>
          <p:spPr>
            <a:xfrm>
              <a:off x="3373560" y="2610000"/>
              <a:ext cx="2895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B                      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59"/>
            <p:cNvSpPr/>
            <p:nvPr/>
          </p:nvSpPr>
          <p:spPr>
            <a:xfrm>
              <a:off x="3830760" y="3943080"/>
              <a:ext cx="77760" cy="114120"/>
            </a:xfrm>
            <a:prstGeom prst="pie">
              <a:avLst/>
            </a:prstGeom>
            <a:noFill/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60"/>
            <p:cNvSpPr/>
            <p:nvPr/>
          </p:nvSpPr>
          <p:spPr>
            <a:xfrm>
              <a:off x="3678480" y="4057560"/>
              <a:ext cx="1752480" cy="0"/>
            </a:xfrm>
            <a:prstGeom prst="line">
              <a:avLst/>
            </a:prstGeom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61"/>
            <p:cNvSpPr/>
            <p:nvPr/>
          </p:nvSpPr>
          <p:spPr>
            <a:xfrm flipV="1">
              <a:off x="3678480" y="2914560"/>
              <a:ext cx="1447560" cy="1142640"/>
            </a:xfrm>
            <a:prstGeom prst="line">
              <a:avLst/>
            </a:prstGeom>
            <a:ln w="9360">
              <a:solidFill>
                <a:srgbClr val="d81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477120" y="2603520"/>
            <a:ext cx="2895480" cy="1572120"/>
            <a:chOff x="6477120" y="2603520"/>
            <a:chExt cx="2895480" cy="1572120"/>
          </a:xfrm>
        </p:grpSpPr>
        <p:sp>
          <p:nvSpPr>
            <p:cNvPr id="154" name="Text Box 163"/>
            <p:cNvSpPr/>
            <p:nvPr/>
          </p:nvSpPr>
          <p:spPr>
            <a:xfrm>
              <a:off x="6477120" y="2603520"/>
              <a:ext cx="28954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81044"/>
                  </a:solidFill>
                  <a:latin typeface="Times New Roman"/>
                </a:rPr>
                <a:t>B                     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64"/>
            <p:cNvSpPr/>
            <p:nvPr/>
          </p:nvSpPr>
          <p:spPr>
            <a:xfrm>
              <a:off x="7008840" y="3908520"/>
              <a:ext cx="77760" cy="114120"/>
            </a:xfrm>
            <a:prstGeom prst="pie">
              <a:avLst/>
            </a:prstGeom>
            <a:noFill/>
            <a:ln w="9360">
              <a:solidFill>
                <a:srgbClr val="e30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65"/>
            <p:cNvSpPr/>
            <p:nvPr/>
          </p:nvSpPr>
          <p:spPr>
            <a:xfrm>
              <a:off x="6782040" y="4051440"/>
              <a:ext cx="1676160" cy="0"/>
            </a:xfrm>
            <a:prstGeom prst="line">
              <a:avLst/>
            </a:prstGeom>
            <a:ln w="9360">
              <a:solidFill>
                <a:srgbClr val="e30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6"/>
            <p:cNvSpPr/>
            <p:nvPr/>
          </p:nvSpPr>
          <p:spPr>
            <a:xfrm flipV="1">
              <a:off x="6782040" y="2984400"/>
              <a:ext cx="1447560" cy="1067040"/>
            </a:xfrm>
            <a:prstGeom prst="line">
              <a:avLst/>
            </a:prstGeom>
            <a:ln w="9360">
              <a:solidFill>
                <a:srgbClr val="e30a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WordArt 168"/>
          <p:cNvSpPr txBox="1"/>
          <p:nvPr/>
        </p:nvSpPr>
        <p:spPr>
          <a:xfrm>
            <a:off x="179280" y="404640"/>
            <a:ext cx="230508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尝试成功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pic>
        <p:nvPicPr>
          <p:cNvPr id="159" name="Picture 169" descr="line01"/>
          <p:cNvPicPr/>
          <p:nvPr/>
        </p:nvPicPr>
        <p:blipFill>
          <a:blip r:embed="rId2"/>
          <a:stretch/>
        </p:blipFill>
        <p:spPr>
          <a:xfrm>
            <a:off x="468360" y="5661000"/>
            <a:ext cx="820728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7a91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908000" y="4762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将图中扇子张开的角度按从大到小排列吗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0" y="189000"/>
            <a:ext cx="172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隶书"/>
              </a:rPr>
              <a:t>观察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395280" y="126828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请同学们量出刚才所画角的度数，其中是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小于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等于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大于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的同学请举手示意，并说出角的名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 flipH="1">
            <a:off x="1186560" y="2997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11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等于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d0d11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d0d11"/>
                </a:solidFill>
                <a:latin typeface="楷体_GB2312"/>
                <a:ea typeface="楷体_GB2312"/>
              </a:rPr>
              <a:t>的角</a:t>
            </a:r>
            <a:r>
              <a:rPr b="1" lang="en-US" sz="2400" spc="-1" strike="noStrike">
                <a:solidFill>
                  <a:srgbClr val="0d0d11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240000" y="3144960"/>
            <a:ext cx="245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395280" y="29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1044"/>
                </a:solidFill>
                <a:latin typeface="Times New Roman"/>
              </a:rPr>
              <a:t>直角</a:t>
            </a:r>
            <a:r>
              <a:rPr b="1" lang="en-US" sz="2000" spc="-1" strike="noStrike">
                <a:solidFill>
                  <a:srgbClr val="d81044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258920" y="2467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的角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258920" y="350028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11"/>
                </a:solidFill>
                <a:latin typeface="Times New Roman"/>
              </a:rPr>
              <a:t>大于直角而小于平角的角</a:t>
            </a:r>
            <a:r>
              <a:rPr b="1" lang="en-US" sz="2400" spc="-1" strike="noStrike">
                <a:solidFill>
                  <a:srgbClr val="0d0d11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95280" y="23954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1044"/>
                </a:solidFill>
                <a:latin typeface="Times New Roman"/>
              </a:rPr>
              <a:t>锐角</a:t>
            </a:r>
            <a:r>
              <a:rPr b="1" lang="en-US" sz="2400" spc="-1" strike="noStrike">
                <a:solidFill>
                  <a:srgbClr val="d81044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465840" y="35481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81044"/>
                </a:solidFill>
                <a:latin typeface="Times New Roman"/>
              </a:rPr>
              <a:t>钝角</a:t>
            </a:r>
            <a:r>
              <a:rPr b="1" lang="en-US" sz="2000" spc="-1" strike="noStrike">
                <a:solidFill>
                  <a:srgbClr val="d81044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WordArt 22"/>
          <p:cNvSpPr txBox="1"/>
          <p:nvPr/>
        </p:nvSpPr>
        <p:spPr>
          <a:xfrm>
            <a:off x="0" y="-95400"/>
            <a:ext cx="2340000" cy="11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隶书"/>
              </a:rPr>
              <a:t>角的分类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099080" y="4339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角、周角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0"/>
          <p:cNvSpPr/>
          <p:nvPr/>
        </p:nvSpPr>
        <p:spPr>
          <a:xfrm>
            <a:off x="3419640" y="350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角的分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56360" y="2492280"/>
          <a:ext cx="2273400" cy="4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2492280"/>
                    <a:ext cx="22734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372360" y="3068640"/>
          <a:ext cx="1709640" cy="498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72360" y="3068640"/>
                    <a:ext cx="17096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6300720" y="3645000"/>
            <a:ext cx="2629080" cy="453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6659640" y="4221000"/>
            <a:ext cx="1720800" cy="454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6516720" y="4869000"/>
            <a:ext cx="1752480" cy="4539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1"/>
          <p:cNvSpPr/>
          <p:nvPr/>
        </p:nvSpPr>
        <p:spPr>
          <a:xfrm>
            <a:off x="4716360" y="2565360"/>
            <a:ext cx="792360" cy="2519280"/>
          </a:xfrm>
          <a:custGeom>
            <a:avLst/>
            <a:gdLst>
              <a:gd name="textAreaLeft" fmla="*/ 506160 w 792360"/>
              <a:gd name="textAreaRight" fmla="*/ 792720 w 79236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8"/>
          <p:cNvSpPr/>
          <p:nvPr/>
        </p:nvSpPr>
        <p:spPr>
          <a:xfrm>
            <a:off x="755640" y="4724280"/>
            <a:ext cx="3960720" cy="1873440"/>
          </a:xfrm>
          <a:prstGeom prst="cloudCallout">
            <a:avLst>
              <a:gd name="adj1" fmla="val 46995"/>
              <a:gd name="adj2" fmla="val -95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16000" y="4941720"/>
            <a:ext cx="3529080" cy="1191240"/>
            <a:chOff x="1116000" y="4941720"/>
            <a:chExt cx="3529080" cy="1191240"/>
          </a:xfrm>
        </p:grpSpPr>
        <p:sp>
          <p:nvSpPr>
            <p:cNvPr id="184" name="Text Box 50"/>
            <p:cNvSpPr/>
            <p:nvPr/>
          </p:nvSpPr>
          <p:spPr>
            <a:xfrm flipH="1" flipV="1">
              <a:off x="1907280" y="5371200"/>
              <a:ext cx="36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11"/>
                  </a:solidFill>
                  <a:latin typeface="宋体"/>
                </a:rPr>
                <a:t>∟</a:t>
              </a:r>
              <a:r>
                <a:rPr b="1" lang="en-US" sz="2000" spc="-1" strike="noStrike">
                  <a:solidFill>
                    <a:srgbClr val="0d0d11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51"/>
            <p:cNvSpPr/>
            <p:nvPr/>
          </p:nvSpPr>
          <p:spPr>
            <a:xfrm>
              <a:off x="1116000" y="4941720"/>
              <a:ext cx="352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直角可以用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t∠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表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画图时常在直角的顶点处加上“   ”来表示这个角是直角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292720" y="2492280"/>
            <a:ext cx="3851280" cy="4365720"/>
            <a:chOff x="5292720" y="2492280"/>
            <a:chExt cx="3851280" cy="4365720"/>
          </a:xfrm>
        </p:grpSpPr>
        <p:sp>
          <p:nvSpPr>
            <p:cNvPr id="187" name="Text Box 31"/>
            <p:cNvSpPr/>
            <p:nvPr/>
          </p:nvSpPr>
          <p:spPr>
            <a:xfrm>
              <a:off x="5292720" y="2492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锐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32"/>
            <p:cNvSpPr/>
            <p:nvPr/>
          </p:nvSpPr>
          <p:spPr>
            <a:xfrm>
              <a:off x="5292720" y="30686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直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33"/>
            <p:cNvSpPr/>
            <p:nvPr/>
          </p:nvSpPr>
          <p:spPr>
            <a:xfrm>
              <a:off x="5292720" y="36446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钝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34"/>
            <p:cNvSpPr/>
            <p:nvPr/>
          </p:nvSpPr>
          <p:spPr>
            <a:xfrm>
              <a:off x="5292720" y="4221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平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35"/>
            <p:cNvSpPr/>
            <p:nvPr/>
          </p:nvSpPr>
          <p:spPr>
            <a:xfrm>
              <a:off x="5364000" y="47973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周角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Picture 52" descr="蝴蝶兰"/>
            <p:cNvPicPr/>
            <p:nvPr/>
          </p:nvPicPr>
          <p:blipFill>
            <a:blip r:embed="rId11"/>
            <a:stretch/>
          </p:blipFill>
          <p:spPr>
            <a:xfrm>
              <a:off x="5867280" y="5790960"/>
              <a:ext cx="3276720" cy="1067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03:18:21Z</dcterms:created>
  <dc:creator>www.czsx.com.cn</dc:creator>
  <dc:description>www.czsx.com.cn</dc:description>
  <cp:keywords>www.czsx.com.cn</cp:keywords>
  <dc:language>en-US</dc:language>
  <cp:lastModifiedBy>Windows 用户</cp:lastModifiedBy>
  <dcterms:modified xsi:type="dcterms:W3CDTF">2015-01-03T23:48:10Z</dcterms:modified>
  <cp:revision>88</cp:revision>
  <dc:subject>www.czsx.com.cn</dc:subject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